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FD0D-4464-4666-B57E-8F6A62A7CE3A}"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0FEB-2A8F-41BF-A1A7-01A5B8305086}"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C8FC-8CAE-4247-94E5-66E9C8D319D0}"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B600-5E55-48E7-9808-EEFD0A8D2913}"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44F9-E940-4046-B8E1-166B2D210D7A}"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B257-2B52-482E-A333-9EEE9844CC60}"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0566-A0D0-410C-B521-08D582BAFD40}"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1C96-1F23-4265-81EA-5E7FF32D3217}"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0131-63AD-46CE-82DB-B583CCDD4F3B}"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EB5A-5940-499D-843E-57B617C6244C}"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22E2-9E72-4A9A-8C6B-5503AD84DBC4}"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27DD-0B32-45EE-9809-D4ACDD9060B6}"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9B89-C21D-4448-9408-72AF3B350631}"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3B6E-EC53-4D08-8B0F-9FE1835C2BD2}"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6315-81A9-4B0B-9B68-2C8B99FF1875}"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14F8B-0A81-4484-B1C7-CF753450B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41695-F749-4CC5-9007-D7F63B7AA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945C97-7844-42C1-981F-1682EDE077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CCEC03-3632-4032-9FA3-33B0B9AA86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C2C220-4CE0-44FE-B6A6-E4247D980F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14B10E-67BB-44E2-87FF-39390707C4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42DFC4-C7A7-449D-A0C2-2CDC832DF3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A68CB4-DAFC-4686-8C4F-35E93A8379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5E88B8-A961-4D41-8FE0-3737D8E60D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531805-BDE5-49C4-8A45-79C28A98C5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86D956-D932-4692-B59D-09313C8222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7158BC-6566-4F1E-B35F-30FAD44972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6AD5D-C410-4BFD-AA7A-03901D053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B8D234-AB57-4861-9741-2EEE7CE404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6D4203-1E49-4913-8382-584B4CB896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A0AA85-064A-4C35-907C-442E104524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34B7C6-4018-4529-8272-0CD8A65EC5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ED7014-1B25-4667-B798-B5BC58FCED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4C86D0-6671-47B9-A4DC-10117FA430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4C7D7D-3EB0-4F53-95B3-78EA272761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800393-536D-4216-A6A9-1577BD97FB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817B67-88D1-4C07-AB08-2D922757B9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6392DD-D95A-4A71-A4A5-B1E768C772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13183-96F9-4773-B854-2BFD5637E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BD2422-64C7-4F7C-A3D9-B428ECD9C6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7F7FB7-5B39-47FF-912D-4013A3086A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589E91-56E1-430D-9C0A-6AEC62798F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D94BFC-F010-41DC-84AE-4C5325C658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83792C-AA81-482E-BFA6-1F6CB85E30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8DE39F-6BCE-4431-9993-11ED16DA4D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91C338-BCED-485B-B42A-CAA5F3C797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0D0763-F27E-466D-8E3E-D205624762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E1EDC3-9C65-49CB-9ECF-94B040E3EB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BDBBE1-98C9-4E8B-94B8-E7FFA77A4E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2BAA1-1D25-453A-B42A-BD1F27EBB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38CA3F-C43B-412F-9A0B-9E5C82556E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699B59-EB3D-4B2A-93CB-9FA84687DA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85D276-B176-4724-8C06-77B6275C82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57534B-9302-4F9E-9603-5DBA013B37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9E130B-A84C-4B53-A2F7-0F20C70057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9B400B-B7B5-4669-A93F-F3AF29FC95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1D56E4-D977-4DC4-B808-15668FCC49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117E23-924F-43F5-8914-279D30A98A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3A940D-0189-47DE-9BA2-48B92D469F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BB4A32-C860-499D-906C-0483E3214D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186D5-0A1C-4CB9-9343-24479B4B6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86AF9F-A611-497E-8D6D-99BAADFD67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0D6CC5-4E6F-4FC8-81C6-058A360078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1DE353-A893-4D80-B9E6-68658DD75A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CD7D84D-A056-48BE-9564-6EC4DB675F6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0E52C2-A649-4023-85DC-547EBC2E4E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1B7A0-6C6E-4911-98E5-34EF26D3D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3E662-9334-4CD9-9E9A-49A8FEC91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F80DF-F236-4197-8742-4E80E597F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25E72-40E0-4318-A6EF-87DDDE0B9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07CC0-D4D5-4995-8291-06D0ECAD6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F3FBC-E9D3-4410-A931-6C8EFC8E6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59746-676F-4E0A-B84A-D606CC147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1AACC-5EBF-4960-90EB-A53C4B6D8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C03BD-664E-4926-9DF7-5FFDA49BB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C16D4-2C7B-4E04-9190-78C372D54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A9B87-9F00-4AE9-BEE2-183AAA40A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FC754F-5D2E-4FD7-900B-4110469437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F795C-DC3B-44D9-9FAA-0597B67AB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29C2C-7D46-445F-BC1B-AB9054496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86698-19E9-4A06-8312-82AE56EB2A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2B504-DE30-4CE3-A642-BB28A165ED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1819F-D11D-4EB9-ADFB-1179C5F64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F0000-771C-4ED1-AE5E-09DD5DB5E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D6B78-A1FE-4825-A715-E65ACBC90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2856D-374A-45ED-808C-950B28AA5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924AD-CBBB-4E80-8DA5-8767D4DA6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E4F91A-3A92-49D2-AE19-9C8927790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5840C5-F6BF-449C-952D-4B2D8AD95B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5FDA7A-012E-4FAF-9B9D-55780A140D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51AA03-C3C9-454B-8CBC-193E79081A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4B8E0-1150-42AE-84B5-5F8FC36CB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269064-DCE6-4E26-9AD8-881BA560B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03EB4-6B50-42D9-B898-88098D8CA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D06E81-940C-4FD0-B046-F272BD32C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DBB92-347C-46A8-A7E3-B993E4395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0EC252-3AA2-4F2E-95FE-1B47E45F09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87068-C72B-4A2E-804F-BB4E04AE3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4437D9-DBCD-4793-823E-BE7B9A042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EE6F5-76FA-4DCC-8ED3-71EE0D93B4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5BE887-A8BA-4DF5-86EF-EEF5AF8F9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8ED096-15FB-419D-B3A8-2ED74C53A2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9EEBC0-6566-4E80-8231-14A5DEBE7C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3150F3-E9B1-46F4-A7D0-91A8BA936E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4A27F-A1DE-4F19-954B-48686DEEB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7028A1-41A8-486B-A9FE-94999D22A2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0FFF8-2077-49FB-A51F-AF5B6E6ED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20FC9C-E021-49FA-BBD8-585348175B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192FE-7172-4C2B-984B-8769875068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A05322-E133-4300-A248-33ABE9112F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A3E0D1-E707-43CA-AA0A-47ECDECC9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D97B6-5C4D-46AA-B34D-9539541DF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11F9A-FB32-4E8C-8B35-BA20A6D2A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F5B4AA-ACA1-4479-84F1-76652392F8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917F11-3950-4016-B294-478CE20097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15A5E-07A4-46A4-B137-E2C66FBA3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F74181-3B7C-4478-822A-80AAD55CE7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0FEDE6-27DA-4B7A-B8BC-B89DCD1FEC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B23D29-6982-4616-8CF4-1B699F6B7E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9384C-EBA1-4399-9B04-B162915FDC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9BD99-1D9C-4ECB-A7B8-4AD800BFC3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D418A-EC84-4011-A72A-047C054D41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5E50A3-DC35-4B7D-9CDF-C5C779923B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A434CE-828F-4B62-A0F6-0BB6B5DA69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DCCEBB-8B89-4619-B6AD-90C93C84A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F77D7-A36B-4896-9C41-5CFD6695E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08D2A-DFA7-45E6-89E1-E273FE090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3C3DF5-9625-44B1-9F39-BE7BF2C9C0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E2D5BB-BB31-4070-AD8E-2990F7FA37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5DB34C-5CF8-44CC-BE67-08042F1E39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64C900-3263-4C96-882B-0CC14E9AD3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006501-CCA5-42CD-97A7-D6F87A3F47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3253DD-E018-43F2-974E-5494297E04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49BBDB-F1F7-4F8E-8D4E-91629C2F06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4B3713-0010-4CB8-952E-5C6D8CA654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91B9A-EEC7-4C73-8EC9-E5A6E2D24C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10146-A382-4996-BF55-E9BBD9AF3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686A6-8CC8-4A6D-A853-2693254F7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BE845-DCFF-4525-8FB9-08FA61F254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E311D-6D88-4EF7-8B8C-A1EF7077E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A4BC33-0FA8-48AC-AD16-DDDD907560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0616AA-419E-44C6-A5B4-890A068A55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9300BC-1236-47D1-B4B8-6880F0990E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368ED8-F582-407B-AB0A-D77FC0E30A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2A042B-FBEA-4B0B-BBFD-12624005AA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A3DDD2-10BE-4EBE-A6F8-23A1F3D9CD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F401A2-B424-4EC0-A7CA-96D31C086F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8B5BC3-EDD7-44E5-867E-476300CB56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EFEA-5CDF-43C8-8725-0127E294D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F02BE6-9F12-4556-A24A-5E66BCD5E3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3A56BA-460C-4093-861A-3702027E76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FD6D4-7CED-476C-B292-F063942D83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66C06A-4895-4CE1-A096-7B98AC047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175A40-9614-4DB3-8F85-2AACE3746F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0D35E1-2114-4791-A704-EAAC80825B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F61AF3-0507-4068-9D5B-16498B4497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8E3DB5-27C1-41B7-8787-ECE9A16B48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AFF652-F662-4392-97BE-FCAA1235DA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774D0E-6314-4131-951C-F44BCF64F0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F46A-2DC2-4D38-AB21-0638F1DA12D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Rectangle 12"/>
          <p:cNvGrpSpPr/>
          <p:nvPr/>
        </p:nvGrpSpPr>
        <p:grpSpPr>
          <a:xfrm>
            <a:off x="646200" y="969840"/>
            <a:ext cx="4803840" cy="4802400"/>
            <a:chOff x="646200" y="969840"/>
            <a:chExt cx="4803840" cy="4802400"/>
          </a:xfrm>
        </p:grpSpPr>
        <p:pic>
          <p:nvPicPr>
            <p:cNvPr id="417" name="Rectangle 12"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A5FD-7963-435B-9690-0EC6AD86BC8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Donut 10"/>
          <p:cNvGrpSpPr/>
          <p:nvPr/>
        </p:nvGrpSpPr>
        <p:grpSpPr>
          <a:xfrm>
            <a:off x="165240" y="1036800"/>
            <a:ext cx="1170000" cy="1170000"/>
            <a:chOff x="165240" y="1036800"/>
            <a:chExt cx="1170000" cy="1170000"/>
          </a:xfrm>
        </p:grpSpPr>
        <p:pic>
          <p:nvPicPr>
            <p:cNvPr id="465" name="Donut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2E67-F304-42CE-A846-B4E0A6EEF92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Donut 10"/>
          <p:cNvGrpSpPr/>
          <p:nvPr/>
        </p:nvGrpSpPr>
        <p:grpSpPr>
          <a:xfrm>
            <a:off x="165240" y="1036800"/>
            <a:ext cx="1170000" cy="1170000"/>
            <a:chOff x="165240" y="1036800"/>
            <a:chExt cx="1170000" cy="1170000"/>
          </a:xfrm>
        </p:grpSpPr>
        <p:pic>
          <p:nvPicPr>
            <p:cNvPr id="513" name="Donut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1A33-8F56-4E27-A588-E8D9D587548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90F8-B896-4E71-A91D-1241728C8E6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Donut 10"/>
          <p:cNvGrpSpPr/>
          <p:nvPr/>
        </p:nvGrpSpPr>
        <p:grpSpPr>
          <a:xfrm>
            <a:off x="165240" y="1036800"/>
            <a:ext cx="1170000" cy="1170000"/>
            <a:chOff x="165240" y="1036800"/>
            <a:chExt cx="1170000" cy="1170000"/>
          </a:xfrm>
        </p:grpSpPr>
        <p:pic>
          <p:nvPicPr>
            <p:cNvPr id="103" name="Donut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3414-B6F2-4160-9B6B-DB0F494D9DA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Oval 15"/>
          <p:cNvGrpSpPr/>
          <p:nvPr/>
        </p:nvGrpSpPr>
        <p:grpSpPr>
          <a:xfrm>
            <a:off x="2163600" y="2809800"/>
            <a:ext cx="231840" cy="225360"/>
            <a:chOff x="2163600" y="2809800"/>
            <a:chExt cx="231840" cy="225360"/>
          </a:xfrm>
        </p:grpSpPr>
        <p:pic>
          <p:nvPicPr>
            <p:cNvPr id="151" name="Oval 15"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D3B2-07C7-4339-9725-449B0A9EC2C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Donut 10"/>
          <p:cNvGrpSpPr/>
          <p:nvPr/>
        </p:nvGrpSpPr>
        <p:grpSpPr>
          <a:xfrm>
            <a:off x="165240" y="1036800"/>
            <a:ext cx="1170000" cy="1170000"/>
            <a:chOff x="165240" y="1036800"/>
            <a:chExt cx="1170000" cy="1170000"/>
          </a:xfrm>
        </p:grpSpPr>
        <p:pic>
          <p:nvPicPr>
            <p:cNvPr id="198" name="Donut 10"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D127-5B68-4903-9E6C-3C50D61A6EB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9A84-F677-4157-B98A-97FDE683934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Donut 10"/>
          <p:cNvGrpSpPr/>
          <p:nvPr/>
        </p:nvGrpSpPr>
        <p:grpSpPr>
          <a:xfrm>
            <a:off x="165240" y="1036800"/>
            <a:ext cx="1170000" cy="1170000"/>
            <a:chOff x="165240" y="1036800"/>
            <a:chExt cx="1170000" cy="1170000"/>
          </a:xfrm>
        </p:grpSpPr>
        <p:pic>
          <p:nvPicPr>
            <p:cNvPr id="287" name="Donut 10"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19287-1189-4D2D-9349-7662E4558AC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DF5A-4581-47F1-B6CD-BED0C565800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51DF-214B-41F6-BDAE-242AB04EA12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 Target="slide4.xml"/><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 Target="slide6.xml"/><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31720" y="360360"/>
            <a:ext cx="7407000" cy="1068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300" spc="-1" strike="noStrike">
                <a:solidFill>
                  <a:srgbClr val="572314"/>
                </a:solidFill>
                <a:latin typeface="Gill Sans MT"/>
                <a:cs typeface="Arial"/>
              </a:rPr>
              <a:t>גורמי הצלחה בפרויקטים</a:t>
            </a:r>
            <a:endParaRPr b="0" lang="en-US" sz="4300" spc="-1" strike="noStrike">
              <a:solidFill>
                <a:srgbClr val="572314"/>
              </a:solidFill>
              <a:latin typeface="Gill Sans MT"/>
            </a:endParaRPr>
          </a:p>
        </p:txBody>
      </p:sp>
      <p:sp>
        <p:nvSpPr>
          <p:cNvPr id="566" name="PlaceHolder 2"/>
          <p:cNvSpPr>
            <a:spLocks noGrp="1"/>
          </p:cNvSpPr>
          <p:nvPr>
            <p:ph type="subTitle"/>
          </p:nvPr>
        </p:nvSpPr>
        <p:spPr>
          <a:xfrm>
            <a:off x="1431720" y="1857240"/>
            <a:ext cx="7407000" cy="478656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320e04"/>
                </a:solidFill>
                <a:latin typeface="Gill Sans MT"/>
                <a:cs typeface="Arial"/>
              </a:rPr>
              <a:t>שמעון זיירמן</a:t>
            </a: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http://www.zeierman.co.il</a:t>
            </a:r>
            <a:endParaRPr b="0" lang="en-US" sz="17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700" spc="-1" strike="noStrike">
                <a:solidFill>
                  <a:srgbClr val="320e04"/>
                </a:solidFill>
                <a:latin typeface="Gill Sans MT"/>
                <a:cs typeface="Arial"/>
              </a:rPr>
              <a:t>עדכון </a:t>
            </a:r>
            <a:r>
              <a:rPr b="0" lang="he-IL" sz="1700" spc="-1" strike="noStrike">
                <a:solidFill>
                  <a:srgbClr val="320e04"/>
                </a:solidFill>
                <a:latin typeface="Gill Sans MT"/>
                <a:ea typeface="Arial"/>
              </a:rPr>
              <a:t>2</a:t>
            </a:r>
            <a:r>
              <a:rPr b="0" lang="he-IL" sz="1700" spc="-1" strike="noStrike">
                <a:solidFill>
                  <a:srgbClr val="320e04"/>
                </a:solidFill>
                <a:latin typeface="Gill Sans MT"/>
                <a:ea typeface="Arial"/>
              </a:rPr>
              <a:t> מיום </a:t>
            </a:r>
            <a:r>
              <a:rPr b="0" lang="he-IL" sz="1700" spc="-1" strike="noStrike">
                <a:solidFill>
                  <a:srgbClr val="320e04"/>
                </a:solidFill>
                <a:latin typeface="Gill Sans MT"/>
                <a:ea typeface="Arial"/>
              </a:rPr>
              <a:t>7.2.2010</a:t>
            </a:r>
            <a:endParaRPr b="0" lang="en-US" sz="1700" spc="-1" strike="noStrike">
              <a:solidFill>
                <a:srgbClr val="000000"/>
              </a:solidFill>
              <a:latin typeface="Gill Sans MT"/>
            </a:endParaRPr>
          </a:p>
        </p:txBody>
      </p:sp>
      <p:sp>
        <p:nvSpPr>
          <p:cNvPr id="567"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8" name="Horizontal Scroll 5" descr="">
            <a:hlinkClick r:id="rId1" action="ppaction://hlinksldjump"/>
          </p:cNvPr>
          <p:cNvPicPr/>
          <p:nvPr/>
        </p:nvPicPr>
        <p:blipFill>
          <a:blip r:embed="rId2"/>
          <a:stretch/>
        </p:blipFill>
        <p:spPr>
          <a:xfrm>
            <a:off x="-42840" y="6224760"/>
            <a:ext cx="907920" cy="7063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428840" y="142920"/>
            <a:ext cx="7407360" cy="714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הצלחה בפרויקט, מהי?</a:t>
            </a:r>
            <a:endParaRPr b="0" lang="en-US" sz="1800" spc="-1" strike="noStrike">
              <a:solidFill>
                <a:srgbClr val="572314"/>
              </a:solidFill>
              <a:latin typeface="Gill Sans MT"/>
            </a:endParaRPr>
          </a:p>
        </p:txBody>
      </p:sp>
      <p:sp>
        <p:nvSpPr>
          <p:cNvPr id="628" name="PlaceHolder 2"/>
          <p:cNvSpPr>
            <a:spLocks noGrp="1"/>
          </p:cNvSpPr>
          <p:nvPr>
            <p:ph type="subTitle"/>
          </p:nvPr>
        </p:nvSpPr>
        <p:spPr>
          <a:xfrm>
            <a:off x="999720" y="1142640"/>
            <a:ext cx="7836120" cy="5357880"/>
          </a:xfrm>
          <a:prstGeom prst="rect">
            <a:avLst/>
          </a:prstGeom>
          <a:noFill/>
          <a:ln w="0">
            <a:noFill/>
          </a:ln>
        </p:spPr>
        <p:txBody>
          <a:bodyPr tIns="0" anchor="t">
            <a:noAutofit/>
          </a:bodyPr>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צלחת פרויקט נמדדת עם </a:t>
            </a:r>
            <a:r>
              <a:rPr b="1" lang="he-IL" sz="1500" spc="-1" strike="noStrike">
                <a:solidFill>
                  <a:srgbClr val="320e04"/>
                </a:solidFill>
                <a:latin typeface="Gill Sans MT"/>
                <a:cs typeface="Arial"/>
              </a:rPr>
              <a:t>סיומו</a:t>
            </a:r>
            <a:r>
              <a:rPr b="0" lang="he-IL" sz="1500" spc="-1" strike="noStrike">
                <a:solidFill>
                  <a:srgbClr val="320e04"/>
                </a:solidFill>
                <a:latin typeface="Gill Sans MT"/>
                <a:ea typeface="Arial"/>
              </a:rPr>
              <a:t>, אז נדרש הפרויקט לספק את התוצר הנכון, בזמן הנכון בתקציב הנכון. שם התואר "הנכון" שולב בהגדרה בכדי לבטא את הצורך בהתאמה של שלושת המאפיינים לצרכי השוק, לצרכי הלקוחות המזמינים ומשלמים עבור תוצרי הפרויקט, כמו גם ההתאמה ליעדי הארגון העיסקי המוכר ומספק את תוצרי הפרויקט.</a:t>
            </a:r>
            <a:endParaRPr b="0" lang="en-US" sz="15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ערך ה"הנכון" של שלושת המאפיינים הינו בעל תכונה מיוחדת. הוא דינמי, חי ונושם במהלך חיי הפרויקט, משתנה עם הזמן מיום התנעת הפרויקט ועד יום סיכומו:</a:t>
            </a:r>
            <a:endParaRPr b="0" lang="en-US" sz="1500" spc="-1" strike="noStrike">
              <a:solidFill>
                <a:srgbClr val="000000"/>
              </a:solidFill>
              <a:latin typeface="Gill Sans MT"/>
            </a:endParaRPr>
          </a:p>
          <a:p>
            <a:pPr marL="2700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גדרת התוצר עשויה להשתנות או להתבהר עם הזמן</a:t>
            </a:r>
            <a:endParaRPr b="0" lang="en-US" sz="1500" spc="-1" strike="noStrike">
              <a:solidFill>
                <a:srgbClr val="000000"/>
              </a:solidFill>
              <a:latin typeface="Gill Sans MT"/>
            </a:endParaRPr>
          </a:p>
          <a:p>
            <a:pPr marL="2700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זמן הנדרש לסיום עשוי להתקצר או להתארך כחלוף הימים</a:t>
            </a:r>
            <a:endParaRPr b="0" lang="en-US" sz="1500" spc="-1" strike="noStrike">
              <a:solidFill>
                <a:srgbClr val="000000"/>
              </a:solidFill>
              <a:latin typeface="Gill Sans MT"/>
            </a:endParaRPr>
          </a:p>
          <a:p>
            <a:pPr marL="2700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תקציב המוקצה לביצוע עשוי לרדת או לעלות במהלך התקופה כולה.</a:t>
            </a:r>
            <a:endParaRPr b="0" lang="en-US" sz="15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במהלך ביצוע הפרויקט יתבהרו צרכי השוק והלקוח, ואף ישתנו. צוות הפרויקט ימצא את עצמו, קרוב לודאי, מתמודד עם הגדרה דינמית ומשתנה של מפרט התוצר המפותח. במהלך ביצוע הפרויקט עלול צוות הפרויקט לגלות שהזמן המוקצה להשלמת הפרויקט הינו גמיש. לעתים הצוות פועל עבור קבלן ראשי שאינו עומד בלוחות הזמנים ועל כן אנו מחויבים להיצמד אל לוחות הזמנים שלו בכדי לא להקדימו לשוא. לעתים אנו מגלים שדרישות חירום גורמות לקיצור משך הזמן המוקצה להשלמת הפרויקט. כך גם לגבי התקציב הקיים לביצוע הפרויקט, הוא עלול להשתנות אפקטיבית עקב שינויים בשערי מטבע, שינויים בעלויות שכר עבודה וכיו"ב. הנהלת הארגון העיסקי עשויה להשית דרישות חדשות לרווחיות גדולה יותר של הפרויקט אותה היא מצפה לקבל על ידי התייעלות במרכיבי עלות הביצוע וכיו"ב.</a:t>
            </a:r>
            <a:endParaRPr b="0" lang="en-US" sz="15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הצלחה תהיה אם כך מנת חלקו של צוות פרויקט הרואה את היעד לסיום הפרויקט בהצלחה כעמידה ביעדים של כל אחד ואחד ממאפייני הפרויקט בנפרד וכולם גם יחד. כל זאת מתוך הבנה ובניית יכולת תגובה נכונה לדינמיות ולאי-הוודאות האינהרנטיים לסביבה הפרוייקטלית, לכך שהיעדים בכל אחד ואחד ממאפייני הפרויקט, מפרט, לוח זמנים או תקציב, עשויים להשתנות בכוון כזה או אחר עם התקדמות הפרויקט וממש עד לרגע סיומו.</a:t>
            </a:r>
            <a:endParaRPr b="0" lang="en-US" sz="15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וכיצד יעשה זאת צוות הפרויקט? המרכיב הנוסף בהצלחת הצוות הוא שימוש בלוגיקת תעדוף החלטות הנגזרת מהקשר ההיררכי שבין מאפייני הפרויקט. טרם הצגת הלוגיקה נציג את הצורך בקבלת החלטות כחלק ממשימת ניהול הפרויקט.</a:t>
            </a:r>
            <a:endParaRPr b="0" lang="en-US" sz="1500" spc="-1" strike="noStrike">
              <a:solidFill>
                <a:srgbClr val="000000"/>
              </a:solidFill>
              <a:latin typeface="Gill Sans MT"/>
            </a:endParaRPr>
          </a:p>
        </p:txBody>
      </p:sp>
      <p:sp>
        <p:nvSpPr>
          <p:cNvPr id="629"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428840" y="142560"/>
            <a:ext cx="7407360" cy="6397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מרכיבי משימת ניהול הפרויקט</a:t>
            </a:r>
            <a:endParaRPr b="0" lang="en-US" sz="3900" spc="-1" strike="noStrike">
              <a:solidFill>
                <a:srgbClr val="572314"/>
              </a:solidFill>
              <a:latin typeface="Gill Sans MT"/>
            </a:endParaRPr>
          </a:p>
        </p:txBody>
      </p:sp>
      <p:sp>
        <p:nvSpPr>
          <p:cNvPr id="632" name="PlaceHolder 2"/>
          <p:cNvSpPr>
            <a:spLocks noGrp="1"/>
          </p:cNvSpPr>
          <p:nvPr>
            <p:ph type="subTitle"/>
          </p:nvPr>
        </p:nvSpPr>
        <p:spPr>
          <a:xfrm>
            <a:off x="999720" y="856800"/>
            <a:ext cx="7907400" cy="6000840"/>
          </a:xfrm>
          <a:prstGeom prst="rect">
            <a:avLst/>
          </a:prstGeom>
          <a:noFill/>
          <a:ln w="0">
            <a:noFill/>
          </a:ln>
        </p:spPr>
        <p:txBody>
          <a:bodyPr tIns="0" anchor="t">
            <a:noAutofit/>
          </a:bodyPr>
          <a:p>
            <a:pPr marL="272880" indent="-24588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משימתו הראשית של ראש הפרויקט היא ניהול הפרויקט.</a:t>
            </a:r>
            <a:endParaRPr b="0" lang="en-US" sz="2400" spc="-1" strike="noStrike">
              <a:solidFill>
                <a:srgbClr val="000000"/>
              </a:solidFill>
              <a:latin typeface="Gill Sans MT"/>
            </a:endParaRPr>
          </a:p>
          <a:p>
            <a:pPr marL="272880" indent="-24588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משימת הניהול מורכב מתת-המשימות הבאות:</a:t>
            </a:r>
            <a:endParaRPr b="0" lang="en-US" sz="2400" spc="-1" strike="noStrike">
              <a:solidFill>
                <a:srgbClr val="000000"/>
              </a:solidFill>
              <a:latin typeface="Gill Sans MT"/>
            </a:endParaRPr>
          </a:p>
          <a:p>
            <a:pPr lvl="2" marL="809640" indent="-273240" algn="r" rtl="1">
              <a:lnSpc>
                <a:spcPct val="70000"/>
              </a:lnSpc>
              <a:spcBef>
                <a:spcPts val="55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Gill Sans MT"/>
                <a:cs typeface="Arial"/>
              </a:rPr>
              <a:t>תכנון</a:t>
            </a:r>
            <a:endParaRPr b="0" lang="en-US" sz="22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תכנון אופן השגת יעדי ההצלחה קרי היעדים המפרטיים, הקצב התכניתי והאספקט הכלכלי.</a:t>
            </a:r>
            <a:endParaRPr b="0" lang="en-US" sz="19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קבלת החלטות תכנון על בסיס יעדי תכנון כפי שהם "נכונים" במועד התכנון תוך היערכות לשינויים ועדכונים במידה וכפי שיידרשו.</a:t>
            </a:r>
            <a:endParaRPr b="0" lang="en-US" sz="1900" spc="-1" strike="noStrike">
              <a:solidFill>
                <a:srgbClr val="000000"/>
              </a:solidFill>
              <a:latin typeface="Gill Sans MT"/>
            </a:endParaRPr>
          </a:p>
          <a:p>
            <a:pPr lvl="2" marL="809640" indent="-273240" algn="r" rtl="1">
              <a:lnSpc>
                <a:spcPct val="70000"/>
              </a:lnSpc>
              <a:spcBef>
                <a:spcPts val="55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Gill Sans MT"/>
                <a:cs typeface="Arial"/>
              </a:rPr>
              <a:t>מעקב</a:t>
            </a:r>
            <a:endParaRPr b="0" lang="en-US" sz="22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מעקב אחר "נכונות" יעדי התכנון (המוצר הנכון, הזמן הנכון, התקציב הנכון) ואפיון השתנותם עם הזמן.</a:t>
            </a:r>
            <a:endParaRPr b="0" lang="en-US" sz="19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מעקב אחר התקדמות הפרויקט ואפיון סטיות בהתקדמות ביחס לתכנון התקף ברגע המעקב.</a:t>
            </a:r>
            <a:endParaRPr b="0" lang="en-US" sz="1900" spc="-1" strike="noStrike">
              <a:solidFill>
                <a:srgbClr val="000000"/>
              </a:solidFill>
              <a:latin typeface="Gill Sans MT"/>
            </a:endParaRPr>
          </a:p>
          <a:p>
            <a:pPr lvl="2" marL="809640" indent="-273240" algn="r" rtl="1">
              <a:lnSpc>
                <a:spcPct val="70000"/>
              </a:lnSpc>
              <a:spcBef>
                <a:spcPts val="55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Gill Sans MT"/>
                <a:cs typeface="Arial"/>
              </a:rPr>
              <a:t>צעדי תיקון</a:t>
            </a:r>
            <a:endParaRPr b="0" lang="en-US" sz="22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קבלת החלטות לעדכון יעדי התכנון "הנכונים" בהתאם להתפתחויות בשוק ובארגון העיסקי ובהתאם לידע שנצבר עם הזמן אצל צוות הפרויקט באשר לתכונות הטכניות של התוצר, לוחות הזמנים והעלויות בפועל.</a:t>
            </a:r>
            <a:endParaRPr b="0" lang="en-US" sz="19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קבלת החלטות לעדכון התכנון באופן שיעמוד ביעדי התכנון "הנכונים" העדכניים ויפצה בכך על השינויים בדרישות היעדים ועל הסטיות שנמדדו בהתקדמות עד עתה.</a:t>
            </a:r>
            <a:endParaRPr b="0" lang="en-US" sz="1900" spc="-1" strike="noStrike">
              <a:solidFill>
                <a:srgbClr val="000000"/>
              </a:solidFill>
              <a:latin typeface="Gill Sans MT"/>
            </a:endParaRPr>
          </a:p>
          <a:p>
            <a:pPr lvl="2" marL="809640" indent="-273240" algn="r" rtl="1">
              <a:lnSpc>
                <a:spcPct val="70000"/>
              </a:lnSpc>
              <a:spcBef>
                <a:spcPts val="55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Gill Sans MT"/>
                <a:cs typeface="Arial"/>
              </a:rPr>
              <a:t>מטרת ההחלטות כולן היא להביא (בעת התכנון) או להחזיר (בעת התיקון) את הפרויקט למסלול רצוי המביא להצלחה מלאה בכל שלושת מאפייני הפרויקט.</a:t>
            </a:r>
            <a:endParaRPr b="0" lang="en-US" sz="2200" spc="-1" strike="noStrike">
              <a:solidFill>
                <a:srgbClr val="000000"/>
              </a:solidFill>
              <a:latin typeface="Gill Sans MT"/>
            </a:endParaRPr>
          </a:p>
          <a:p>
            <a:pPr marL="272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ubTitle"/>
          </p:nvPr>
        </p:nvSpPr>
        <p:spPr>
          <a:xfrm>
            <a:off x="928440" y="1856880"/>
            <a:ext cx="7910280" cy="5000760"/>
          </a:xfrm>
          <a:prstGeom prst="rect">
            <a:avLst/>
          </a:prstGeom>
          <a:noFill/>
          <a:ln w="0">
            <a:noFill/>
          </a:ln>
        </p:spPr>
        <p:txBody>
          <a:bodyPr tIns="0" anchor="t">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320e04"/>
                </a:solidFill>
                <a:latin typeface="Gill Sans MT"/>
                <a:cs typeface="Arial"/>
              </a:rPr>
              <a:t>גורם עיקרי המשפיע על הצלחת פרויקט הוא אימוץ קו המנחה את ראש הפרויקט לתעדף את החלטותיו על פי הקשר ההיררכי בין שלושת מאפייני הפרויקט.</a:t>
            </a:r>
            <a:endParaRPr b="0" lang="en-US" sz="14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u="sng">
                <a:solidFill>
                  <a:srgbClr val="320e04"/>
                </a:solidFill>
                <a:uFillTx/>
                <a:latin typeface="Gill Sans MT"/>
                <a:cs typeface="Arial"/>
              </a:rPr>
              <a:t>עדיפות ראשונה – עדיפות להשגת התוצר הנכון</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יש לקבל החלטות תכנון וצעדי תיקון לסגירת פערי מפרט, בעדיפות הראשונה. רק, ומיד לאחר קבלת החלטה שכזו, יש לתת את הדעת ולקבל החלטות לסגירת פערי הזמן והעלות, ובכלל זה הפערים הנובעים ממתן העדיפות להשגת המפרט המלא של התוצר.</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u="sng">
                <a:solidFill>
                  <a:srgbClr val="320e04"/>
                </a:solidFill>
                <a:uFillTx/>
                <a:latin typeface="Gill Sans MT"/>
                <a:cs typeface="Arial"/>
              </a:rPr>
              <a:t>עדיפות שניה – עדיפות לעמידה בלו"ז הנכון</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יש לקבל החלטות תכנון וצעדי תיקון לסגירת פערי לו"ז, בעדיפות על סגירת פערי עלות. רק, ומיד לאחר קבלת החלטה שכזו, יש לתת את הדעת ולקבל החלטות לסגירת פערי העלות, ובכלל זה הפערים הנובעים ממתן העדיפות לעמידה בלו"ז.</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u="sng">
                <a:solidFill>
                  <a:srgbClr val="320e04"/>
                </a:solidFill>
                <a:uFillTx/>
                <a:latin typeface="Gill Sans MT"/>
                <a:cs typeface="Arial"/>
              </a:rPr>
              <a:t>עדיפות שלישית – עדיפות לעמידה ביעד העלות הנכון</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יש לקבל החלטות תכנון וצעדי תיקון לסגירת פערי עלות תוך מיצוי צעדי התייעלות בתוך הפרויקט או מיצוי שיתופי פעולה עם פרויקטים אחרים או עם גורמים אחרים הפועלים במסגרת הארגון העיסקי בו מנוהל הפרויקט.</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u="sng">
                <a:solidFill>
                  <a:srgbClr val="320e04"/>
                </a:solidFill>
                <a:uFillTx/>
                <a:latin typeface="Gill Sans MT"/>
                <a:cs typeface="Arial"/>
              </a:rPr>
              <a:t>עדיפות אחרונה - במצבי "אין ברירה" בלבד</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בעדיפות אחרונה, וכפעולות חרום בלבד כצעד ברגע בו "אין ברירה", קרוב לודאי בסמוך למועד הסיום החוזי של הפרויקט, ובמטרה להקטין את מימדי אי העמידה ביעדי הפרויקט, ניתן לקבל החלטות לפנייה ללקוח או לארגון האם העיסקי בו מנוהל הפרויקט בבקשות להקלות במפרט, דחיות בלוחות זמנים או סיוע כלכלי (הגדלת הזמנה, העלאת מחיר מכירה, הקטנת רווחיות). יש להבדיל פנייה לא מומלצת שכזו מהפעילות המומלצת לתאום המפרט, לוחות הזמנים והתקציב "הנכונים" בין הלקוח, ארגון האם העיסקי והפרויקט, שהוזכרו במקום אחר במאמר זה.</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ea typeface="Arial"/>
              </a:rPr>
              <a:t> </a:t>
            </a:r>
            <a:endParaRPr b="0" lang="en-US" sz="1500" spc="-1" strike="noStrike">
              <a:solidFill>
                <a:srgbClr val="000000"/>
              </a:solidFill>
              <a:latin typeface="Gill Sans MT"/>
            </a:endParaRPr>
          </a:p>
        </p:txBody>
      </p:sp>
      <p:sp>
        <p:nvSpPr>
          <p:cNvPr id="634" name="Title 1"/>
          <p:cNvSpPr/>
          <p:nvPr/>
        </p:nvSpPr>
        <p:spPr>
          <a:xfrm>
            <a:off x="0" y="0"/>
            <a:ext cx="9144000" cy="12859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572314"/>
                </a:solidFill>
                <a:latin typeface="Gill Sans MT"/>
              </a:rPr>
              <a:t>גורם עיקרי המשפיע על הצלחת פרויקט:</a:t>
            </a:r>
            <a:br>
              <a:rPr sz="3600"/>
            </a:br>
            <a:r>
              <a:rPr b="0" lang="he-IL" sz="3600" spc="-1" strike="noStrike">
                <a:solidFill>
                  <a:srgbClr val="572314"/>
                </a:solidFill>
                <a:latin typeface="Gill Sans MT"/>
              </a:rPr>
              <a:t>תעדוף החלטות על פי הקשר ההיררכי</a:t>
            </a:r>
            <a:endParaRPr b="0" lang="en-US" sz="3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0"/>
            <a:ext cx="9144000" cy="1000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572314"/>
                </a:solidFill>
                <a:latin typeface="Gill Sans MT"/>
                <a:cs typeface="Arial"/>
              </a:rPr>
              <a:t>תרומה להצלחת הפרויקט מהאספקט הארגוני</a:t>
            </a:r>
            <a:endParaRPr b="0" lang="en-US" sz="3600" spc="-1" strike="noStrike">
              <a:solidFill>
                <a:srgbClr val="572314"/>
              </a:solidFill>
              <a:latin typeface="Gill Sans MT"/>
            </a:endParaRPr>
          </a:p>
        </p:txBody>
      </p:sp>
      <p:sp>
        <p:nvSpPr>
          <p:cNvPr id="636" name="PlaceHolder 2"/>
          <p:cNvSpPr>
            <a:spLocks noGrp="1"/>
          </p:cNvSpPr>
          <p:nvPr>
            <p:ph type="subTitle"/>
          </p:nvPr>
        </p:nvSpPr>
        <p:spPr>
          <a:xfrm>
            <a:off x="928800" y="1428840"/>
            <a:ext cx="8215200" cy="4929120"/>
          </a:xfrm>
          <a:prstGeom prst="rect">
            <a:avLst/>
          </a:prstGeom>
          <a:noFill/>
          <a:ln w="0">
            <a:noFill/>
          </a:ln>
        </p:spPr>
        <p:txBody>
          <a:bodyPr tIns="0" anchor="t">
            <a:noAutofit/>
          </a:bodyPr>
          <a:p>
            <a:pPr lvl="1" marL="693720" indent="-237960" algn="r" rtl="1">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Gill Sans MT"/>
                <a:cs typeface="Arial"/>
              </a:rPr>
              <a:t>עוד מספר מילים בהקשר לשוויון החשיבות של התרומה של כל אחד ממאפייני הפרויקט להישג הפרויקטי הכולל במועד סיומו, קרי:</a:t>
            </a:r>
            <a:endParaRPr b="0" lang="en-US" sz="2600" spc="-1" strike="noStrike">
              <a:solidFill>
                <a:srgbClr val="000000"/>
              </a:solidFill>
              <a:latin typeface="Gill Sans MT"/>
            </a:endParaRPr>
          </a:p>
          <a:p>
            <a:pPr lvl="2" marL="1150920" indent="-237960" algn="r" rtl="1">
              <a:lnSpc>
                <a:spcPct val="80000"/>
              </a:lnSpc>
              <a:spcBef>
                <a:spcPts val="476"/>
              </a:spcBef>
              <a:buClr>
                <a:srgbClr val="feb8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המאפיין הטכני (העמדת התוצר על פי מפרט מלא),</a:t>
            </a:r>
            <a:endParaRPr b="0" lang="en-US" sz="1900" spc="-1" strike="noStrike">
              <a:solidFill>
                <a:srgbClr val="000000"/>
              </a:solidFill>
              <a:latin typeface="Gill Sans MT"/>
            </a:endParaRPr>
          </a:p>
          <a:p>
            <a:pPr lvl="2" marL="1150920" indent="-237960" algn="r" rtl="1">
              <a:lnSpc>
                <a:spcPct val="80000"/>
              </a:lnSpc>
              <a:spcBef>
                <a:spcPts val="476"/>
              </a:spcBef>
              <a:buClr>
                <a:srgbClr val="feb8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המאפיין התכניתי (עמידה בלוחות הזמנים),</a:t>
            </a:r>
            <a:endParaRPr b="0" lang="en-US" sz="1900" spc="-1" strike="noStrike">
              <a:solidFill>
                <a:srgbClr val="000000"/>
              </a:solidFill>
              <a:latin typeface="Gill Sans MT"/>
            </a:endParaRPr>
          </a:p>
          <a:p>
            <a:pPr lvl="2" marL="1150920" indent="-237960" algn="r" rtl="1">
              <a:lnSpc>
                <a:spcPct val="80000"/>
              </a:lnSpc>
              <a:spcBef>
                <a:spcPts val="476"/>
              </a:spcBef>
              <a:buClr>
                <a:srgbClr val="feb8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המאפיין הכלכלי (עמידה ביעד עלות ובנגזרותיו, כגון תזרים מזומנים).</a:t>
            </a:r>
            <a:endParaRPr b="0" lang="en-US" sz="1900" spc="-1" strike="noStrike">
              <a:solidFill>
                <a:srgbClr val="000000"/>
              </a:solidFill>
              <a:latin typeface="Gill Sans MT"/>
            </a:endParaRPr>
          </a:p>
          <a:p>
            <a:pPr lvl="1" marL="693720" indent="-237960" algn="r" rtl="1">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Gill Sans MT"/>
                <a:cs typeface="Arial"/>
              </a:rPr>
              <a:t>קיימת חולשה נוכחית (עולמית) בעוצמה התכניתית – שליטה חסרה בכל הקשור לשאלת העמידה בלוח הזמנים של הפרויקט.</a:t>
            </a:r>
            <a:endParaRPr b="0" lang="en-US" sz="2600" spc="-1" strike="noStrike">
              <a:solidFill>
                <a:srgbClr val="000000"/>
              </a:solidFill>
              <a:latin typeface="Gill Sans MT"/>
            </a:endParaRPr>
          </a:p>
          <a:p>
            <a:pPr lvl="1" marL="693720" indent="-237960" algn="r" rtl="1">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Gill Sans MT"/>
                <a:cs typeface="Arial"/>
              </a:rPr>
              <a:t>החולשה מעניקה באופן טבעי עוצמת יתר למאפיין הטכני מצד אחד ולמאפיין הכלכלי מצד שני.</a:t>
            </a:r>
            <a:endParaRPr b="0" lang="en-US" sz="2600" spc="-1" strike="noStrike">
              <a:solidFill>
                <a:srgbClr val="000000"/>
              </a:solidFill>
              <a:latin typeface="Gill Sans MT"/>
            </a:endParaRPr>
          </a:p>
          <a:p>
            <a:pPr lvl="1" marL="693720" indent="-237960" algn="r" rtl="1">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Gill Sans MT"/>
                <a:cs typeface="Arial"/>
              </a:rPr>
              <a:t>הפתרון להעצמת המאפיין התכניתי נמצא בהשקעה עולמית וארגונית בפיתוח ואגירת הידע המתודולוגי בנושא ניהול לעמידה בלוחות זמנים כמו גם ביישומו בפועל.</a:t>
            </a:r>
            <a:endParaRPr b="0" lang="en-US" sz="2600" spc="-1" strike="noStrike">
              <a:solidFill>
                <a:srgbClr val="000000"/>
              </a:solidFill>
              <a:latin typeface="Gill Sans MT"/>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ubTitle"/>
          </p:nvPr>
        </p:nvSpPr>
        <p:spPr>
          <a:xfrm>
            <a:off x="999720" y="1214280"/>
            <a:ext cx="7839000" cy="5429520"/>
          </a:xfrm>
          <a:prstGeom prst="rect">
            <a:avLst/>
          </a:prstGeom>
          <a:noFill/>
          <a:ln w="0">
            <a:noFill/>
          </a:ln>
        </p:spPr>
        <p:txBody>
          <a:bodyPr tIns="0" anchor="t">
            <a:noAutofit/>
          </a:bodyPr>
          <a:p>
            <a:pPr marL="266760" indent="-23976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600" spc="-1" strike="noStrike">
                <a:solidFill>
                  <a:srgbClr val="320e04"/>
                </a:solidFill>
                <a:latin typeface="Gill Sans MT"/>
                <a:cs typeface="Arial"/>
              </a:rPr>
              <a:t>דילמה</a:t>
            </a:r>
            <a:r>
              <a:rPr b="0" lang="he-IL" sz="2600" spc="-1" strike="noStrike">
                <a:solidFill>
                  <a:srgbClr val="320e04"/>
                </a:solidFill>
                <a:latin typeface="Gill Sans MT"/>
                <a:ea typeface="Arial"/>
              </a:rPr>
              <a:t>: קיימת דרך לסגירת פער לו"ז אך נדרשת השקעה נוספת מתקציב הפרויקט למימושה.</a:t>
            </a:r>
            <a:endParaRPr b="0" lang="en-US" sz="2600" spc="-1" strike="noStrike">
              <a:solidFill>
                <a:srgbClr val="000000"/>
              </a:solidFill>
              <a:latin typeface="Gill Sans MT"/>
            </a:endParaRPr>
          </a:p>
          <a:p>
            <a:pPr marL="266760" indent="-2397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600" spc="-1" strike="noStrike">
                <a:solidFill>
                  <a:srgbClr val="320e04"/>
                </a:solidFill>
                <a:latin typeface="Gill Sans MT"/>
                <a:cs typeface="Arial"/>
              </a:rPr>
              <a:t>החלטה</a:t>
            </a:r>
            <a:r>
              <a:rPr b="0" lang="he-IL" sz="2600" spc="-1" strike="noStrike">
                <a:solidFill>
                  <a:srgbClr val="320e04"/>
                </a:solidFill>
                <a:latin typeface="Gill Sans MT"/>
                <a:ea typeface="Arial"/>
              </a:rPr>
              <a:t>: לבחור בדרך המוצעת לסגירת פער הלו"ז ובמקביל להקטין את סך ההשקעה הנדרשת למימוש למינימום (עקרון מתן עדיפות לעמידה בלו"ז הנכון).</a:t>
            </a:r>
            <a:endParaRPr b="0" lang="en-US" sz="2600" spc="-1" strike="noStrike">
              <a:solidFill>
                <a:srgbClr val="000000"/>
              </a:solidFill>
              <a:latin typeface="Gill Sans MT"/>
            </a:endParaRPr>
          </a:p>
          <a:p>
            <a:pPr marL="266760" indent="-2397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600" spc="-1" strike="noStrike">
                <a:solidFill>
                  <a:srgbClr val="320e04"/>
                </a:solidFill>
                <a:latin typeface="Gill Sans MT"/>
                <a:cs typeface="Arial"/>
              </a:rPr>
              <a:t>ארוע</a:t>
            </a:r>
            <a:r>
              <a:rPr b="0" lang="he-IL" sz="2600" spc="-1" strike="noStrike">
                <a:solidFill>
                  <a:srgbClr val="320e04"/>
                </a:solidFill>
                <a:latin typeface="Gill Sans MT"/>
                <a:ea typeface="Arial"/>
              </a:rPr>
              <a:t> </a:t>
            </a:r>
            <a:r>
              <a:rPr b="1" lang="he-IL" sz="2600" spc="-1" strike="noStrike">
                <a:solidFill>
                  <a:srgbClr val="320e04"/>
                </a:solidFill>
                <a:latin typeface="Gill Sans MT"/>
                <a:cs typeface="Arial"/>
              </a:rPr>
              <a:t>לדוגמה</a:t>
            </a:r>
            <a:r>
              <a:rPr b="0" lang="he-IL" sz="2600" spc="-1" strike="noStrike">
                <a:solidFill>
                  <a:srgbClr val="320e04"/>
                </a:solidFill>
                <a:latin typeface="Gill Sans MT"/>
                <a:ea typeface="Arial"/>
              </a:rPr>
              <a:t>: החלטה לשלם תשלום נוסף לקבלן משנה לזירוז אספקה של פריט קריטי.</a:t>
            </a:r>
            <a:endParaRPr b="0" lang="en-US" sz="2600" spc="-1" strike="noStrike">
              <a:solidFill>
                <a:srgbClr val="000000"/>
              </a:solidFill>
              <a:latin typeface="Gill Sans MT"/>
            </a:endParaRPr>
          </a:p>
          <a:p>
            <a:pPr marL="266760" indent="-23976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600" spc="-1" strike="noStrike">
                <a:solidFill>
                  <a:srgbClr val="320e04"/>
                </a:solidFill>
                <a:latin typeface="Gill Sans MT"/>
                <a:cs typeface="Arial"/>
              </a:rPr>
              <a:t>דילמה</a:t>
            </a:r>
            <a:r>
              <a:rPr b="0" lang="he-IL" sz="2600" spc="-1" strike="noStrike">
                <a:solidFill>
                  <a:srgbClr val="320e04"/>
                </a:solidFill>
                <a:latin typeface="Gill Sans MT"/>
                <a:ea typeface="Arial"/>
              </a:rPr>
              <a:t>: לקראת סיום הפרויקט מתגלה פער בין תכונות המוצר בפועל לבין מפרט הדרישות.</a:t>
            </a:r>
            <a:endParaRPr b="0" lang="en-US" sz="2600" spc="-1" strike="noStrike">
              <a:solidFill>
                <a:srgbClr val="000000"/>
              </a:solidFill>
              <a:latin typeface="Gill Sans MT"/>
            </a:endParaRPr>
          </a:p>
          <a:p>
            <a:pPr marL="266760" indent="-2397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20e04"/>
                </a:solidFill>
                <a:latin typeface="Gill Sans MT"/>
                <a:cs typeface="Arial"/>
              </a:rPr>
              <a:t>החלטה</a:t>
            </a:r>
            <a:r>
              <a:rPr b="0" lang="he-IL" sz="2400" spc="-1" strike="noStrike">
                <a:solidFill>
                  <a:srgbClr val="320e04"/>
                </a:solidFill>
                <a:latin typeface="Gill Sans MT"/>
                <a:ea typeface="Arial"/>
              </a:rPr>
              <a:t>: להתניע מיידית תהליך פיתוח לסגירת הפער, להשקיע תקציב בכדי לסיים את הפיתוח במסגרת הזמן הפרויקטי ובמקביל להתייעל ולהקטין את סך התקציב הנדרש למינימום (עקרון מתן עדיפות ראשונה להשגת התוצר הנכון, עדיפות שניה לעמידה בלו"ז הנכון).</a:t>
            </a:r>
            <a:endParaRPr b="0" lang="en-US" sz="2400" spc="-1" strike="noStrike">
              <a:solidFill>
                <a:srgbClr val="000000"/>
              </a:solidFill>
              <a:latin typeface="Gill Sans MT"/>
            </a:endParaRPr>
          </a:p>
          <a:p>
            <a:pPr marL="266760" indent="-2397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20e04"/>
                </a:solidFill>
                <a:latin typeface="Gill Sans MT"/>
                <a:cs typeface="Arial"/>
              </a:rPr>
              <a:t>ארוע לדוגמה</a:t>
            </a:r>
            <a:r>
              <a:rPr b="0" lang="he-IL" sz="2400" spc="-1" strike="noStrike">
                <a:solidFill>
                  <a:srgbClr val="320e04"/>
                </a:solidFill>
                <a:latin typeface="Gill Sans MT"/>
                <a:ea typeface="Arial"/>
              </a:rPr>
              <a:t>: החלטה לשנות תכנון של מרכיב ולהחליפו בתכן אמין יותר בכדי לתת מענה מלא לדרישת אמינות המוצר.</a:t>
            </a:r>
            <a:endParaRPr b="0" lang="en-US" sz="2400" spc="-1" strike="noStrike">
              <a:solidFill>
                <a:srgbClr val="000000"/>
              </a:solidFill>
              <a:latin typeface="Gill Sans MT"/>
            </a:endParaRPr>
          </a:p>
        </p:txBody>
      </p:sp>
      <p:sp>
        <p:nvSpPr>
          <p:cNvPr id="638" name="Title 1"/>
          <p:cNvSpPr/>
          <p:nvPr/>
        </p:nvSpPr>
        <p:spPr>
          <a:xfrm>
            <a:off x="0" y="0"/>
            <a:ext cx="9144000" cy="785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572314"/>
                </a:solidFill>
                <a:latin typeface="Gill Sans MT"/>
              </a:rPr>
              <a:t>דילמות והחלטות לדוגמה</a:t>
            </a:r>
            <a:endParaRPr b="0" lang="en-US" sz="3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428840" y="285480"/>
            <a:ext cx="7407360" cy="6397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סכום</a:t>
            </a:r>
            <a:endParaRPr b="0" lang="en-US" sz="3900" spc="-1" strike="noStrike">
              <a:solidFill>
                <a:srgbClr val="572314"/>
              </a:solidFill>
              <a:latin typeface="Gill Sans MT"/>
            </a:endParaRPr>
          </a:p>
        </p:txBody>
      </p:sp>
      <p:sp>
        <p:nvSpPr>
          <p:cNvPr id="640" name="PlaceHolder 2"/>
          <p:cNvSpPr>
            <a:spLocks noGrp="1"/>
          </p:cNvSpPr>
          <p:nvPr>
            <p:ph type="subTitle"/>
          </p:nvPr>
        </p:nvSpPr>
        <p:spPr>
          <a:xfrm>
            <a:off x="1022400" y="1357200"/>
            <a:ext cx="8121600" cy="5143680"/>
          </a:xfrm>
          <a:prstGeom prst="rect">
            <a:avLst/>
          </a:prstGeom>
          <a:noFill/>
          <a:ln w="0">
            <a:noFill/>
          </a:ln>
        </p:spPr>
        <p:txBody>
          <a:bodyPr tIns="0" anchor="t">
            <a:noAutofit/>
          </a:bodyPr>
          <a:p>
            <a:pPr marL="264960" indent="-237960" algn="r" rtl="1">
              <a:lnSpc>
                <a:spcPct val="12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משימת ראש הפרויקט היא לנהל ולהעמיד לרשות הלקוח או השוק את התוצר הנכון, בזמן הנכון ובתקציב הנכון, באופן המותיר שולי רווח נאותים ליחידת האם העסקית שלו (החברה) כל זאת תוך התאמת הניהול באופן שוטף לתנאים הדינמיים בסביבת הפרויקט.</a:t>
            </a:r>
            <a:endParaRPr b="0" lang="en-US" sz="2400" spc="-1" strike="noStrike">
              <a:solidFill>
                <a:srgbClr val="000000"/>
              </a:solidFill>
              <a:latin typeface="Gill Sans MT"/>
            </a:endParaRPr>
          </a:p>
          <a:p>
            <a:pPr marL="264960" indent="-237960" algn="r" rtl="1">
              <a:lnSpc>
                <a:spcPct val="12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כלי העיקרי העומד לרשות מנהל הפרויקט בכדי להצליח במשימה הוא תהליך מובנה לקבלת החלטות על פי הקשר ההיררכי בין מאפייני הפרויקט:</a:t>
            </a:r>
            <a:endParaRPr b="0" lang="en-US" sz="2400" spc="-1" strike="noStrike">
              <a:solidFill>
                <a:srgbClr val="000000"/>
              </a:solidFill>
              <a:latin typeface="Gill Sans MT"/>
            </a:endParaRPr>
          </a:p>
          <a:p>
            <a:pPr marL="264960" indent="-237960" algn="r" rtl="1">
              <a:lnSpc>
                <a:spcPct val="12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יעילותו של כלי זה תבוא לידי ביטוי בכל פרויקט המציב לפניו יעד לאזן ולהשוות את ההישגים בכל שלושת המאפיינים, התוצר, הזמן והכסף במהלך הפרויקט ועד לרגע הסיום של הפרויקט, תוך התייחסות לדינמיקה ולתנאי אי הוודאות המאפיינים את הפרויקט.</a:t>
            </a:r>
            <a:endParaRPr b="0" lang="en-US" sz="2400" spc="-1" strike="noStrike">
              <a:solidFill>
                <a:srgbClr val="000000"/>
              </a:solidFill>
              <a:latin typeface="Gill Sans MT"/>
            </a:endParaRPr>
          </a:p>
        </p:txBody>
      </p:sp>
      <p:grpSp>
        <p:nvGrpSpPr>
          <p:cNvPr id="641" name="Group 8"/>
          <p:cNvGrpSpPr/>
          <p:nvPr/>
        </p:nvGrpSpPr>
        <p:grpSpPr>
          <a:xfrm>
            <a:off x="3857760" y="4071960"/>
            <a:ext cx="2786040" cy="428760"/>
            <a:chOff x="3857760" y="4071960"/>
            <a:chExt cx="2786040" cy="428760"/>
          </a:xfrm>
        </p:grpSpPr>
        <p:sp>
          <p:nvSpPr>
            <p:cNvPr id="642" name="Subtitle 2"/>
            <p:cNvSpPr/>
            <p:nvPr/>
          </p:nvSpPr>
          <p:spPr>
            <a:xfrm>
              <a:off x="3857760" y="4071960"/>
              <a:ext cx="2786040" cy="428760"/>
            </a:xfrm>
            <a:prstGeom prst="rect">
              <a:avLst/>
            </a:prstGeom>
            <a:noFill/>
            <a:ln w="0">
              <a:noFill/>
            </a:ln>
          </p:spPr>
          <p:style>
            <a:lnRef idx="0"/>
            <a:fillRef idx="0"/>
            <a:effectRef idx="0"/>
            <a:fontRef idx="minor"/>
          </p:style>
          <p:txBody>
            <a:bodyPr lIns="90000" rIns="90000" tIns="0" bIns="46800" anchor="t">
              <a:noAutofit/>
            </a:bodyPr>
            <a:p>
              <a:pPr marL="270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תוצר     זמן      כסף)</a:t>
              </a:r>
              <a:endParaRPr b="0" lang="en-US" sz="2400" spc="-1" strike="noStrike">
                <a:solidFill>
                  <a:srgbClr val="000000"/>
                </a:solidFill>
                <a:latin typeface="Arial"/>
              </a:endParaRPr>
            </a:p>
          </p:txBody>
        </p:sp>
        <p:sp>
          <p:nvSpPr>
            <p:cNvPr id="643" name="Left Arrow 5"/>
            <p:cNvSpPr/>
            <p:nvPr/>
          </p:nvSpPr>
          <p:spPr>
            <a:xfrm>
              <a:off x="5508720" y="4202280"/>
              <a:ext cx="276120" cy="204840"/>
            </a:xfrm>
            <a:prstGeom prst="leftArrow">
              <a:avLst>
                <a:gd name="adj1" fmla="val 50000"/>
                <a:gd name="adj2" fmla="val 4996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eft Arrow 6"/>
            <p:cNvSpPr/>
            <p:nvPr/>
          </p:nvSpPr>
          <p:spPr>
            <a:xfrm>
              <a:off x="4626360" y="4195440"/>
              <a:ext cx="276120" cy="204840"/>
            </a:xfrm>
            <a:prstGeom prst="leftArrow">
              <a:avLst>
                <a:gd name="adj1" fmla="val 50000"/>
                <a:gd name="adj2" fmla="val 4996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5" name="Horizontal Scroll 7" descr="">
            <a:hlinkClick r:id="rId1" action="ppaction://hlinksldjump"/>
          </p:cNvPr>
          <p:cNvPicPr/>
          <p:nvPr/>
        </p:nvPicPr>
        <p:blipFill>
          <a:blip r:embed="rId2"/>
          <a:stretch/>
        </p:blipFill>
        <p:spPr>
          <a:xfrm>
            <a:off x="-42840" y="6224760"/>
            <a:ext cx="907920" cy="7063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428840" y="142920"/>
            <a:ext cx="7407360" cy="714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סכום</a:t>
            </a:r>
            <a:endParaRPr b="0" lang="en-US" sz="1800" spc="-1" strike="noStrike">
              <a:solidFill>
                <a:srgbClr val="572314"/>
              </a:solidFill>
              <a:latin typeface="Gill Sans MT"/>
            </a:endParaRPr>
          </a:p>
        </p:txBody>
      </p:sp>
      <p:sp>
        <p:nvSpPr>
          <p:cNvPr id="647" name="PlaceHolder 2"/>
          <p:cNvSpPr>
            <a:spLocks noGrp="1"/>
          </p:cNvSpPr>
          <p:nvPr>
            <p:ph type="subTitle"/>
          </p:nvPr>
        </p:nvSpPr>
        <p:spPr>
          <a:xfrm>
            <a:off x="999720" y="1142640"/>
            <a:ext cx="7836120" cy="535788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וצג מודל לוגי כללי להתנהלותם של פרויקטים מרגע התנעתם ועד לרגע סיומם. המודל מציג שני קשרי גומלין בין המאפיינים הראשיים של פרויקט וקשרי גומלין בין הפרויקט לבין סביבתו העיסקית, הלא היא השוק והארגון העיסקי במסגרתו פועל הפרויקט.</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על פי מודל זה הוגדרה הצלחת הפרויקט כפי שהיא צפויה להימדד עם סיומו והיא להעמיד לרשות השוק את התוצר הנכון, בזמן הנכון ובתקציב הנכון, באופן המותיר את שולי הרווח הנדרשים לארגון העיסקי במסגרתו מנוהל הפרויקט לצורך המשך קיומו של הארגון העיסקי, והכל כפי שסוכם.</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ניהול הפרויקט נעשה בתנאי אי-וודאות ובכלל זה דינמיקה בלתי צפויה מראש של השוק ושל הארגון העיסקי. מרבית מהלך הפרויקט נעשה בערפל כבד המקשה על קבלת החלטות להתנהלות. במצב זה, הגדרת המדד להצלחת הפרויקט עם סיומו היא מגדלור חזק המתווה כוון אחיד וברור לפרויקט כולו בכל עת.</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בתנאים אלה, תעדוף ההחלטות על פי הקשר ההיררכי משמש ככלי טקטי רב-עוצמה הנמצא בידיו של ראש הפרויקט ומסייע לו להגיע למדד ההצלחה, כפי שהוגדר על ידי בעלי הענין.</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מודל הופעל הלכה למעשה במספר פרויקטים בהצלחה רבה.</a:t>
            </a:r>
            <a:endParaRPr b="0" lang="en-US" sz="1800" spc="-1" strike="noStrike">
              <a:solidFill>
                <a:srgbClr val="000000"/>
              </a:solidFill>
              <a:latin typeface="Gill Sans MT"/>
            </a:endParaRPr>
          </a:p>
        </p:txBody>
      </p:sp>
      <p:sp>
        <p:nvSpPr>
          <p:cNvPr id="648"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43000" y="3071520"/>
            <a:ext cx="7407360" cy="639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תודה רבה</a:t>
            </a:r>
            <a:endParaRPr b="0" lang="en-US" sz="3900" spc="-1" strike="noStrike">
              <a:solidFill>
                <a:srgbClr val="572314"/>
              </a:solidFill>
              <a:latin typeface="Gill Sans M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428840" y="142560"/>
            <a:ext cx="7407360" cy="500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פתיחה</a:t>
            </a:r>
            <a:endParaRPr b="0" lang="en-US" sz="1800" spc="-1" strike="noStrike">
              <a:solidFill>
                <a:srgbClr val="572314"/>
              </a:solidFill>
              <a:latin typeface="Gill Sans MT"/>
            </a:endParaRPr>
          </a:p>
        </p:txBody>
      </p:sp>
      <p:sp>
        <p:nvSpPr>
          <p:cNvPr id="570" name="PlaceHolder 2"/>
          <p:cNvSpPr>
            <a:spLocks noGrp="1"/>
          </p:cNvSpPr>
          <p:nvPr>
            <p:ph type="subTitle"/>
          </p:nvPr>
        </p:nvSpPr>
        <p:spPr>
          <a:xfrm>
            <a:off x="1428840" y="1142640"/>
            <a:ext cx="7407360" cy="4786200"/>
          </a:xfrm>
          <a:prstGeom prst="rect">
            <a:avLst/>
          </a:prstGeom>
          <a:noFill/>
          <a:ln w="0">
            <a:noFill/>
          </a:ln>
        </p:spPr>
        <p:txBody>
          <a:bodyPr tIns="0" anchor="t">
            <a:noAutofit/>
          </a:bodyPr>
          <a:p>
            <a:pPr marL="27000" indent="0" algn="r" rtl="1">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מצגת זו מציגה מודל למאפיינים הראשיים של פרויקט ולקשרי הגומלין בין מאפיינים אלה, בינם לבין עצמם ובינם לבין הסביבה העסקית בה פועל הפרויקט. הצלחת הפרויקט מוגדרת במונחים של מודל זה ובעקבות כך מאופיינת ומוצעת לדיון רשימת הגורמים העיקריים המשפיעים על הצלחתו של פרויקט.</a:t>
            </a:r>
            <a:endParaRPr b="0" lang="en-US" sz="1800" spc="-1" strike="noStrike">
              <a:solidFill>
                <a:srgbClr val="000000"/>
              </a:solidFill>
              <a:latin typeface="Gill Sans MT"/>
            </a:endParaRPr>
          </a:p>
          <a:p>
            <a:pPr marL="27000" indent="0" algn="r" rtl="1">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מצגת מפרטת את המאפיינים הראשיים של פרויקט בין אם מדובר בפרויקטי פיתוח מורכבים, פרויקטי ייצור, בנייה, שירותים או פרויקטים אחרים. פרויקטים שכאלה מהווים חלק מפעילותו של ארגון עיסקי הפועל למטרות רווח או כל ארגון אחר אשר יעדו הוא איזון כלכלי ללא כוונות רווח.</a:t>
            </a:r>
            <a:endParaRPr b="0" lang="en-US" sz="1800" spc="-1" strike="noStrike">
              <a:solidFill>
                <a:srgbClr val="000000"/>
              </a:solidFill>
              <a:latin typeface="Gill Sans MT"/>
            </a:endParaRPr>
          </a:p>
          <a:p>
            <a:pPr marL="27000" indent="0" algn="r" rtl="1">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בין המאפיינים הראשיים של הפרויקט מתקיימות שתי מערכות של יחסי גומלין. מצד אחד כל אחד ואחד מהמאפיינים שווה-ערך לרעהו ומצד שני מתקיים קשר היררכי ביניהם, כפי שיפורט בהמשך.</a:t>
            </a:r>
            <a:endParaRPr b="0" lang="en-US" sz="1800" spc="-1" strike="noStrike">
              <a:solidFill>
                <a:srgbClr val="000000"/>
              </a:solidFill>
              <a:latin typeface="Gill Sans MT"/>
            </a:endParaRPr>
          </a:p>
          <a:p>
            <a:pPr marL="27000" indent="0" algn="r" rtl="1">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במצגת אני מציע להתייחס לשתי הפנים של קשרי הגומלין בין המאפיינים ולהיעזר בהם לתמיכה בתהליך קבלת ההחלטות הפרויקטליות, באופן שיסייע להצלחת הפרויקט הן מנקודת המבט של הלקוח והשוק והן מנקודת המבט של הארגון העיסקי במסגרתו מבוצע הפרויקט.</a:t>
            </a:r>
            <a:endParaRPr b="0" lang="en-US" sz="1800" spc="-1" strike="noStrike">
              <a:solidFill>
                <a:srgbClr val="000000"/>
              </a:solidFill>
              <a:latin typeface="Gill Sans MT"/>
            </a:endParaRPr>
          </a:p>
        </p:txBody>
      </p:sp>
      <p:sp>
        <p:nvSpPr>
          <p:cNvPr id="571"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500120" y="713880"/>
            <a:ext cx="7407360" cy="500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72314"/>
                </a:solidFill>
                <a:latin typeface="Gill Sans MT"/>
                <a:cs typeface="Arial"/>
              </a:rPr>
              <a:t>ראש הפרויקט צריך לנהל ולהעמיד את:</a:t>
            </a:r>
            <a:endParaRPr b="0" lang="en-US" sz="2400" spc="-1" strike="noStrike">
              <a:solidFill>
                <a:srgbClr val="572314"/>
              </a:solidFill>
              <a:latin typeface="Gill Sans MT"/>
            </a:endParaRPr>
          </a:p>
        </p:txBody>
      </p:sp>
      <p:sp>
        <p:nvSpPr>
          <p:cNvPr id="574" name="PlaceHolder 2"/>
          <p:cNvSpPr>
            <a:spLocks noGrp="1"/>
          </p:cNvSpPr>
          <p:nvPr>
            <p:ph type="subTitle"/>
          </p:nvPr>
        </p:nvSpPr>
        <p:spPr>
          <a:xfrm>
            <a:off x="142920" y="1285920"/>
            <a:ext cx="6549840" cy="642960"/>
          </a:xfrm>
          <a:prstGeom prst="rect">
            <a:avLst/>
          </a:prstGeom>
          <a:noFill/>
          <a:ln w="0">
            <a:noFill/>
          </a:ln>
        </p:spPr>
        <p:txBody>
          <a:bodyPr tIns="0" anchor="t">
            <a:noAutofit/>
          </a:bodyPr>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0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320e04"/>
                </a:solidFill>
                <a:latin typeface="Gill Sans MT"/>
                <a:cs typeface="Arial"/>
              </a:rPr>
              <a:t>מאפייני העולם הפרויקטלי</a:t>
            </a:r>
            <a:endParaRPr b="0" lang="en-US" sz="2000" spc="-1" strike="noStrike">
              <a:solidFill>
                <a:srgbClr val="000000"/>
              </a:solidFill>
              <a:latin typeface="Gill Sans MT"/>
            </a:endParaRPr>
          </a:p>
        </p:txBody>
      </p:sp>
      <p:grpSp>
        <p:nvGrpSpPr>
          <p:cNvPr id="575" name="Group 19"/>
          <p:cNvGrpSpPr/>
          <p:nvPr/>
        </p:nvGrpSpPr>
        <p:grpSpPr>
          <a:xfrm>
            <a:off x="2428920" y="2286000"/>
            <a:ext cx="1857240" cy="4340160"/>
            <a:chOff x="2428920" y="2286000"/>
            <a:chExt cx="1857240" cy="4340160"/>
          </a:xfrm>
        </p:grpSpPr>
        <p:sp>
          <p:nvSpPr>
            <p:cNvPr id="576" name="Cube 8"/>
            <p:cNvSpPr/>
            <p:nvPr/>
          </p:nvSpPr>
          <p:spPr>
            <a:xfrm>
              <a:off x="2428920" y="2286000"/>
              <a:ext cx="1857240" cy="3143160"/>
            </a:xfrm>
            <a:prstGeom prst="cube">
              <a:avLst>
                <a:gd name="adj" fmla="val 25000"/>
              </a:avLst>
            </a:prstGeom>
            <a:solidFill>
              <a:srgbClr val="7ec3d4"/>
            </a:solidFill>
            <a:ln w="25560">
              <a:solidFill>
                <a:srgbClr val="0070c0">
                  <a:alpha val="55000"/>
                </a:srgbClr>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0000"/>
                  </a:solidFill>
                  <a:uFillTx/>
                  <a:latin typeface="Gill Sans MT"/>
                </a:rPr>
                <a:t>בזמן</a:t>
              </a:r>
              <a:br>
                <a:rPr sz="2800"/>
              </a:br>
              <a:r>
                <a:rPr b="0" lang="he-IL" sz="2800" spc="-1" strike="noStrike" u="sng">
                  <a:solidFill>
                    <a:srgbClr val="000000"/>
                  </a:solidFill>
                  <a:uFillTx/>
                  <a:latin typeface="Gill Sans MT"/>
                </a:rPr>
                <a:t>שהוקצה</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עמידה ביעדי האספקות הנדרשים</a:t>
              </a:r>
              <a:endParaRPr b="0" lang="en-US" sz="2000" spc="-1" strike="noStrike">
                <a:solidFill>
                  <a:srgbClr val="000000"/>
                </a:solidFill>
                <a:latin typeface="Arial"/>
              </a:endParaRPr>
            </a:p>
          </p:txBody>
        </p:sp>
        <p:pic>
          <p:nvPicPr>
            <p:cNvPr id="577" name="Picture 2" descr="C:\Program Files\Microsoft Office\MEDIA\CAGCAT10\j0234131.wmf"/>
            <p:cNvPicPr/>
            <p:nvPr/>
          </p:nvPicPr>
          <p:blipFill>
            <a:blip r:embed="rId1"/>
            <a:stretch/>
          </p:blipFill>
          <p:spPr>
            <a:xfrm>
              <a:off x="2857320" y="5714640"/>
              <a:ext cx="857160" cy="911520"/>
            </a:xfrm>
            <a:prstGeom prst="rect">
              <a:avLst/>
            </a:prstGeom>
            <a:ln w="0">
              <a:noFill/>
            </a:ln>
          </p:spPr>
        </p:pic>
      </p:grpSp>
      <p:grpSp>
        <p:nvGrpSpPr>
          <p:cNvPr id="578" name="Group 20"/>
          <p:cNvGrpSpPr/>
          <p:nvPr/>
        </p:nvGrpSpPr>
        <p:grpSpPr>
          <a:xfrm>
            <a:off x="285840" y="2286000"/>
            <a:ext cx="1857240" cy="4289400"/>
            <a:chOff x="285840" y="2286000"/>
            <a:chExt cx="1857240" cy="4289400"/>
          </a:xfrm>
        </p:grpSpPr>
        <p:sp>
          <p:nvSpPr>
            <p:cNvPr id="579" name="Cube 9"/>
            <p:cNvSpPr/>
            <p:nvPr/>
          </p:nvSpPr>
          <p:spPr>
            <a:xfrm>
              <a:off x="285840" y="2286000"/>
              <a:ext cx="1857240" cy="3143160"/>
            </a:xfrm>
            <a:prstGeom prst="cube">
              <a:avLst>
                <a:gd name="adj" fmla="val 25000"/>
              </a:avLst>
            </a:prstGeom>
            <a:solidFill>
              <a:srgbClr val="7ec3d4"/>
            </a:solidFill>
            <a:ln w="25560">
              <a:solidFill>
                <a:srgbClr val="0070c0">
                  <a:alpha val="55000"/>
                </a:srgbClr>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0000"/>
                  </a:solidFill>
                  <a:uFillTx/>
                  <a:latin typeface="Gill Sans MT"/>
                </a:rPr>
                <a:t>בתקציב שהוקצב</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עלות במסגרת המתוכננת</a:t>
              </a:r>
              <a:endParaRPr b="0" lang="en-US" sz="2000" spc="-1" strike="noStrike">
                <a:solidFill>
                  <a:srgbClr val="000000"/>
                </a:solidFill>
                <a:latin typeface="Arial"/>
              </a:endParaRPr>
            </a:p>
          </p:txBody>
        </p:sp>
        <p:pic>
          <p:nvPicPr>
            <p:cNvPr id="580" name="Picture 4" descr="C:\Program Files\Microsoft Office\MEDIA\CAGCAT10\j0222015.wmf"/>
            <p:cNvPicPr/>
            <p:nvPr/>
          </p:nvPicPr>
          <p:blipFill>
            <a:blip r:embed="rId2"/>
            <a:stretch/>
          </p:blipFill>
          <p:spPr>
            <a:xfrm>
              <a:off x="642960" y="5786640"/>
              <a:ext cx="785880" cy="788760"/>
            </a:xfrm>
            <a:prstGeom prst="rect">
              <a:avLst/>
            </a:prstGeom>
            <a:ln w="0">
              <a:noFill/>
            </a:ln>
          </p:spPr>
        </p:pic>
      </p:grpSp>
      <p:grpSp>
        <p:nvGrpSpPr>
          <p:cNvPr id="581" name="Group 18"/>
          <p:cNvGrpSpPr/>
          <p:nvPr/>
        </p:nvGrpSpPr>
        <p:grpSpPr>
          <a:xfrm>
            <a:off x="4572000" y="2286000"/>
            <a:ext cx="1857240" cy="4216320"/>
            <a:chOff x="4572000" y="2286000"/>
            <a:chExt cx="1857240" cy="4216320"/>
          </a:xfrm>
        </p:grpSpPr>
        <p:sp>
          <p:nvSpPr>
            <p:cNvPr id="582" name="Cube 3"/>
            <p:cNvSpPr/>
            <p:nvPr/>
          </p:nvSpPr>
          <p:spPr>
            <a:xfrm>
              <a:off x="4572000" y="2286000"/>
              <a:ext cx="1857240" cy="3143160"/>
            </a:xfrm>
            <a:prstGeom prst="cube">
              <a:avLst>
                <a:gd name="adj" fmla="val 25000"/>
              </a:avLst>
            </a:prstGeom>
            <a:solidFill>
              <a:srgbClr val="7ec3d4"/>
            </a:solidFill>
            <a:ln w="25560">
              <a:solidFill>
                <a:srgbClr val="0070c0">
                  <a:alpha val="55000"/>
                </a:srgbClr>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0000"/>
                  </a:solidFill>
                  <a:uFillTx/>
                  <a:latin typeface="Gill Sans MT"/>
                </a:rPr>
                <a:t>התוצר המוגדר</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ביצועים</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אמינות</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איכות</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עלות ייצור</a:t>
              </a:r>
              <a:br>
                <a:rPr sz="2000"/>
              </a:br>
              <a:r>
                <a:rPr b="0" lang="he-IL" sz="2800" spc="-1" strike="noStrike">
                  <a:solidFill>
                    <a:srgbClr val="000000"/>
                  </a:solidFill>
                  <a:latin typeface="Gill Sans MT"/>
                </a:rPr>
                <a:t>...</a:t>
              </a:r>
              <a:endParaRPr b="0" lang="en-US" sz="2800" spc="-1" strike="noStrike">
                <a:solidFill>
                  <a:srgbClr val="000000"/>
                </a:solidFill>
                <a:latin typeface="Arial"/>
              </a:endParaRPr>
            </a:p>
          </p:txBody>
        </p:sp>
        <p:pic>
          <p:nvPicPr>
            <p:cNvPr id="583" name="Picture 5" descr="C:\Program Files\Microsoft Office\MEDIA\CAGCAT10\j0216858.wmf"/>
            <p:cNvPicPr/>
            <p:nvPr/>
          </p:nvPicPr>
          <p:blipFill>
            <a:blip r:embed="rId3"/>
            <a:stretch/>
          </p:blipFill>
          <p:spPr>
            <a:xfrm>
              <a:off x="4714560" y="5857200"/>
              <a:ext cx="1413360" cy="645120"/>
            </a:xfrm>
            <a:prstGeom prst="rect">
              <a:avLst/>
            </a:prstGeom>
            <a:ln w="0">
              <a:noFill/>
            </a:ln>
          </p:spPr>
        </p:pic>
      </p:grpSp>
      <p:sp>
        <p:nvSpPr>
          <p:cNvPr id="584" name="Left Brace 14"/>
          <p:cNvSpPr/>
          <p:nvPr/>
        </p:nvSpPr>
        <p:spPr>
          <a:xfrm rot="5400000">
            <a:off x="3286080" y="-1143000"/>
            <a:ext cx="214560" cy="6500880"/>
          </a:xfrm>
          <a:custGeom>
            <a:avLst/>
            <a:gdLst>
              <a:gd name="textAreaLeft" fmla="*/ 137160 w 214560"/>
              <a:gd name="textAreaRight" fmla="*/ 214920 w 214560"/>
              <a:gd name="textAreaTop" fmla="*/ 5400 h 6500880"/>
              <a:gd name="textAreaBottom" fmla="*/ 6495480 h 6500880"/>
            </a:gdLst>
            <a:ahLst/>
            <a:rect l="textAreaLeft" t="textAreaTop" r="textAreaRight" b="textAreaBottom"/>
            <a:pathLst>
              <a:path w="21600" h="21600">
                <a:moveTo>
                  <a:pt x="21600" y="0"/>
                </a:moveTo>
                <a:cubicBezTo>
                  <a:pt x="16200" y="0"/>
                  <a:pt x="10800" y="30"/>
                  <a:pt x="10800" y="59"/>
                </a:cubicBezTo>
                <a:lnTo>
                  <a:pt x="10800" y="10741"/>
                </a:lnTo>
                <a:cubicBezTo>
                  <a:pt x="10800" y="10771"/>
                  <a:pt x="5400" y="10800"/>
                  <a:pt x="0" y="10800"/>
                </a:cubicBezTo>
                <a:cubicBezTo>
                  <a:pt x="5400" y="10800"/>
                  <a:pt x="10800" y="10830"/>
                  <a:pt x="10800" y="10859"/>
                </a:cubicBezTo>
                <a:lnTo>
                  <a:pt x="10800" y="21541"/>
                </a:lnTo>
                <a:cubicBezTo>
                  <a:pt x="10800" y="21571"/>
                  <a:pt x="16200" y="21600"/>
                  <a:pt x="2160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Group 21"/>
          <p:cNvGrpSpPr/>
          <p:nvPr/>
        </p:nvGrpSpPr>
        <p:grpSpPr>
          <a:xfrm>
            <a:off x="6929280" y="2214720"/>
            <a:ext cx="1857600" cy="4214520"/>
            <a:chOff x="6929280" y="2214720"/>
            <a:chExt cx="1857600" cy="4214520"/>
          </a:xfrm>
        </p:grpSpPr>
        <p:pic>
          <p:nvPicPr>
            <p:cNvPr id="586" name="Picture 6" descr=""/>
            <p:cNvPicPr/>
            <p:nvPr/>
          </p:nvPicPr>
          <p:blipFill>
            <a:blip r:embed="rId4"/>
            <a:stretch/>
          </p:blipFill>
          <p:spPr>
            <a:xfrm>
              <a:off x="7214760" y="5572080"/>
              <a:ext cx="857160" cy="857160"/>
            </a:xfrm>
            <a:prstGeom prst="rect">
              <a:avLst/>
            </a:prstGeom>
            <a:ln w="0">
              <a:noFill/>
            </a:ln>
          </p:spPr>
        </p:pic>
        <p:sp>
          <p:nvSpPr>
            <p:cNvPr id="587" name="Cube 17"/>
            <p:cNvSpPr/>
            <p:nvPr/>
          </p:nvSpPr>
          <p:spPr>
            <a:xfrm>
              <a:off x="6929280" y="2214720"/>
              <a:ext cx="1857600" cy="3143160"/>
            </a:xfrm>
            <a:prstGeom prst="cube">
              <a:avLst>
                <a:gd name="adj" fmla="val 25000"/>
              </a:avLst>
            </a:prstGeom>
            <a:solidFill>
              <a:srgbClr val="7ec3d4"/>
            </a:solidFill>
            <a:ln w="25560">
              <a:solidFill>
                <a:srgbClr val="0070c0">
                  <a:alpha val="55000"/>
                </a:srgbClr>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0000"/>
                  </a:solidFill>
                  <a:uFillTx/>
                  <a:latin typeface="Gill Sans MT"/>
                </a:rPr>
                <a:t>תואם צרכי השוק והארגון העסקי</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88" name="Title 1"/>
          <p:cNvSpPr/>
          <p:nvPr/>
        </p:nvSpPr>
        <p:spPr>
          <a:xfrm>
            <a:off x="1500120" y="142920"/>
            <a:ext cx="7407360" cy="639720"/>
          </a:xfrm>
          <a:prstGeom prst="rect">
            <a:avLst/>
          </a:prstGeom>
          <a:noFill/>
          <a:ln w="0">
            <a:noFill/>
          </a:ln>
        </p:spPr>
        <p:style>
          <a:lnRef idx="0"/>
          <a:fillRef idx="0"/>
          <a:effectRef idx="0"/>
          <a:fontRef idx="minor"/>
        </p:style>
        <p:txBody>
          <a:bodyPr lIns="90000" rIns="90000" tIns="46800" bIns="46800"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rPr>
              <a:t>משימת ראש הפרויקט</a:t>
            </a:r>
            <a:endParaRPr b="0" lang="en-US" sz="3900" spc="-1" strike="noStrike">
              <a:solidFill>
                <a:srgbClr val="000000"/>
              </a:solidFill>
              <a:latin typeface="Arial"/>
            </a:endParaRPr>
          </a:p>
        </p:txBody>
      </p:sp>
      <p:pic>
        <p:nvPicPr>
          <p:cNvPr id="589" name="Horizontal Scroll 18" descr="">
            <a:hlinkClick r:id="rId5" action="ppaction://hlinksldjump"/>
          </p:cNvPr>
          <p:cNvPicPr/>
          <p:nvPr/>
        </p:nvPicPr>
        <p:blipFill>
          <a:blip r:embed="rId6"/>
          <a:stretch/>
        </p:blipFill>
        <p:spPr>
          <a:xfrm>
            <a:off x="-42840" y="6224760"/>
            <a:ext cx="907920" cy="7063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73"/>
                                        </p:tgtEl>
                                        <p:attrNameLst>
                                          <p:attrName>style.visibility</p:attrName>
                                        </p:attrNameLst>
                                      </p:cBhvr>
                                      <p:to>
                                        <p:strVal val="visible"/>
                                      </p:to>
                                    </p:set>
                                    <p:animEffect filter="fade" transition="in">
                                      <p:cBhvr additive="repl">
                                        <p:cTn id="7" dur="500"/>
                                        <p:tgtEl>
                                          <p:spTgt spid="5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1"/>
                                        </p:tgtEl>
                                        <p:attrNameLst>
                                          <p:attrName>style.visibility</p:attrName>
                                        </p:attrNameLst>
                                      </p:cBhvr>
                                      <p:to>
                                        <p:strVal val="visible"/>
                                      </p:to>
                                    </p:set>
                                    <p:animEffect filter="fade" transition="in">
                                      <p:cBhvr additive="repl">
                                        <p:cTn id="12" dur="500"/>
                                        <p:tgtEl>
                                          <p:spTgt spid="58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75"/>
                                        </p:tgtEl>
                                        <p:attrNameLst>
                                          <p:attrName>style.visibility</p:attrName>
                                        </p:attrNameLst>
                                      </p:cBhvr>
                                      <p:to>
                                        <p:strVal val="visible"/>
                                      </p:to>
                                    </p:set>
                                    <p:animEffect filter="fade" transition="in">
                                      <p:cBhvr additive="repl">
                                        <p:cTn id="17" dur="500"/>
                                        <p:tgtEl>
                                          <p:spTgt spid="57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78"/>
                                        </p:tgtEl>
                                        <p:attrNameLst>
                                          <p:attrName>style.visibility</p:attrName>
                                        </p:attrNameLst>
                                      </p:cBhvr>
                                      <p:to>
                                        <p:strVal val="visible"/>
                                      </p:to>
                                    </p:set>
                                    <p:animEffect filter="fade" transition="in">
                                      <p:cBhvr additive="repl">
                                        <p:cTn id="22" dur="500"/>
                                        <p:tgtEl>
                                          <p:spTgt spid="5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84"/>
                                        </p:tgtEl>
                                        <p:attrNameLst>
                                          <p:attrName>style.visibility</p:attrName>
                                        </p:attrNameLst>
                                      </p:cBhvr>
                                      <p:to>
                                        <p:strVal val="visible"/>
                                      </p:to>
                                    </p:set>
                                    <p:animEffect filter="fade" transition="in">
                                      <p:cBhvr additive="repl">
                                        <p:cTn id="27" dur="500"/>
                                        <p:tgtEl>
                                          <p:spTgt spid="584"/>
                                        </p:tgtEl>
                                      </p:cBhvr>
                                    </p:animEffect>
                                  </p:childTnLst>
                                </p:cTn>
                              </p:par>
                              <p:par>
                                <p:cTn id="28" nodeType="withEffect" fill="hold" presetClass="entr" presetID="10">
                                  <p:stCondLst>
                                    <p:cond delay="0"/>
                                  </p:stCondLst>
                                  <p:childTnLst>
                                    <p:set>
                                      <p:cBhvr>
                                        <p:cTn id="29" dur="1" fill="hold">
                                          <p:stCondLst>
                                            <p:cond delay="0"/>
                                          </p:stCondLst>
                                        </p:cTn>
                                        <p:tgtEl>
                                          <p:spTgt spid="574">
                                            <p:txEl>
                                              <p:pRg st="1" end="1"/>
                                            </p:txEl>
                                          </p:spTgt>
                                        </p:tgtEl>
                                        <p:attrNameLst>
                                          <p:attrName>style.visibility</p:attrName>
                                        </p:attrNameLst>
                                      </p:cBhvr>
                                      <p:to>
                                        <p:strVal val="visible"/>
                                      </p:to>
                                    </p:set>
                                    <p:animEffect filter="fade" transition="in">
                                      <p:cBhvr additive="repl">
                                        <p:cTn id="30" dur="500"/>
                                        <p:tgtEl>
                                          <p:spTgt spid="574">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85"/>
                                        </p:tgtEl>
                                        <p:attrNameLst>
                                          <p:attrName>style.visibility</p:attrName>
                                        </p:attrNameLst>
                                      </p:cBhvr>
                                      <p:to>
                                        <p:strVal val="visible"/>
                                      </p:to>
                                    </p:set>
                                    <p:animEffect filter="fade" transition="in">
                                      <p:cBhvr additive="repl">
                                        <p:cTn id="35" dur="500"/>
                                        <p:tgtEl>
                                          <p:spTgt spid="585"/>
                                        </p:tgtEl>
                                      </p:cBhvr>
                                    </p:animEffect>
                                  </p:childTnLst>
                                </p:cTn>
                              </p:par>
                            </p:childTnLst>
                          </p:cTn>
                        </p:par>
                        <p:par>
                          <p:cTn id="36" fill="hold">
                            <p:stCondLst>
                              <p:cond delay="500"/>
                            </p:stCondLst>
                            <p:childTnLst>
                              <p:par>
                                <p:cTn id="37" nodeType="afterEffect" fill="hold" presetClass="entr" presetID="10">
                                  <p:stCondLst>
                                    <p:cond delay="500"/>
                                  </p:stCondLst>
                                  <p:childTnLst>
                                    <p:set>
                                      <p:cBhvr>
                                        <p:cTn id="38" dur="1" fill="hold">
                                          <p:stCondLst>
                                            <p:cond delay="0"/>
                                          </p:stCondLst>
                                        </p:cTn>
                                        <p:tgtEl>
                                          <p:spTgt spid="589"/>
                                        </p:tgtEl>
                                        <p:attrNameLst>
                                          <p:attrName>style.visibility</p:attrName>
                                        </p:attrNameLst>
                                      </p:cBhvr>
                                      <p:to>
                                        <p:strVal val="visible"/>
                                      </p:to>
                                    </p:set>
                                    <p:animEffect filter="fade" transition="in">
                                      <p:cBhvr additive="repl">
                                        <p:cTn id="3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428840" y="142920"/>
            <a:ext cx="7407360" cy="714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משימת ראש פרויקט</a:t>
            </a:r>
            <a:endParaRPr b="0" lang="en-US" sz="1800" spc="-1" strike="noStrike">
              <a:solidFill>
                <a:srgbClr val="572314"/>
              </a:solidFill>
              <a:latin typeface="Gill Sans MT"/>
            </a:endParaRPr>
          </a:p>
        </p:txBody>
      </p:sp>
      <p:sp>
        <p:nvSpPr>
          <p:cNvPr id="591" name="PlaceHolder 2"/>
          <p:cNvSpPr>
            <a:spLocks noGrp="1"/>
          </p:cNvSpPr>
          <p:nvPr>
            <p:ph type="subTitle"/>
          </p:nvPr>
        </p:nvSpPr>
        <p:spPr>
          <a:xfrm>
            <a:off x="1428840" y="1142640"/>
            <a:ext cx="7407360" cy="478620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משימת ראש הפרויקט היא לנהל ולהעמיד את התוצר הפרוייקטי הנותן מענה לכל הדרישות המפרטיות גם יחד (פונקציונליות, ביצועים, אמינות, איכות, עלות ייצור, מענה לחוקים ותקנות וכיו"ב). ראש הפרויקט אינו חופשי לחלוטין במשימה זו. הוא נדרש לבצעה תחת שתי מגבלות ראשיות והן הזמן שהוקצה כמו גם התקציב שהוקצב לביצוע משימת העמדת התוצר הפרויקטלי.</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תוצר, הזמן והתקציב הם המאפיינים המרכזיים של העולם הפרויקטלי. העולם הפרויקטלי כשלעצמו קשור לעולם עיסקי חיצוני לפרויקט העוטף אותו ומציב בפניו את סך הדרישות. עולם חיצוני זה הוא אותו העולם בו נקשרים הקונים על צרכיהם ויכולותיהם אל המוכרים על מרכולתם ויעדיהם ובכלל זה יעדיהם הכלכליים. </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משימה הנוספת של ראש הפרויקט הינה אם כן להעמיד את התוצר הפרויקטי בזמן ובתקציב התואמים הן את הצרכים והיכולות של השוק הרוכש את התוצר והן את היעדים של הארגון העיסקי תחת כנפיו פועל הפרויקט.</a:t>
            </a:r>
            <a:endParaRPr b="0" lang="en-US" sz="1800" spc="-1" strike="noStrike">
              <a:solidFill>
                <a:srgbClr val="000000"/>
              </a:solidFill>
              <a:latin typeface="Gill Sans MT"/>
            </a:endParaRPr>
          </a:p>
        </p:txBody>
      </p:sp>
      <p:sp>
        <p:nvSpPr>
          <p:cNvPr id="592"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0"/>
            <a:ext cx="9144000" cy="13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קשרי גומלין דואליים בין מאפייני הפרויקט</a:t>
            </a:r>
            <a:br>
              <a:rPr sz="3900"/>
            </a:br>
            <a:r>
              <a:rPr b="0" lang="he-IL" sz="3900" spc="-1" strike="noStrike">
                <a:solidFill>
                  <a:srgbClr val="572314"/>
                </a:solidFill>
                <a:latin typeface="Gill Sans MT"/>
                <a:cs typeface="Arial"/>
              </a:rPr>
              <a:t>א) שוויון הערך</a:t>
            </a:r>
            <a:endParaRPr b="0" lang="en-US" sz="3900" spc="-1" strike="noStrike">
              <a:solidFill>
                <a:srgbClr val="572314"/>
              </a:solidFill>
              <a:latin typeface="Gill Sans MT"/>
            </a:endParaRPr>
          </a:p>
        </p:txBody>
      </p:sp>
      <p:sp>
        <p:nvSpPr>
          <p:cNvPr id="595" name="Subtitle 2"/>
          <p:cNvSpPr/>
          <p:nvPr/>
        </p:nvSpPr>
        <p:spPr>
          <a:xfrm>
            <a:off x="7572240" y="-428760"/>
            <a:ext cx="7407360" cy="4500720"/>
          </a:xfrm>
          <a:prstGeom prst="rect">
            <a:avLst/>
          </a:prstGeom>
          <a:noFill/>
          <a:ln w="0">
            <a:noFill/>
          </a:ln>
        </p:spPr>
        <p:style>
          <a:lnRef idx="0"/>
          <a:fillRef idx="0"/>
          <a:effectRef idx="0"/>
          <a:fontRef idx="minor"/>
        </p:style>
        <p:txBody>
          <a:bodyPr lIns="90000" rIns="90000" tIns="0" bIns="46800" anchor="t">
            <a:noAutofit/>
          </a:bodyPr>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סדנת הצלחות וכשלונות ב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קורס למנהלי 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תע"ש, </a:t>
            </a:r>
            <a:r>
              <a:rPr b="0" lang="he-IL" sz="2400" spc="-1" strike="noStrike">
                <a:solidFill>
                  <a:srgbClr val="320e04"/>
                </a:solidFill>
                <a:latin typeface="Gill Sans MT"/>
              </a:rPr>
              <a:t>24.5.09</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הרצאה מאת שמעון זיירמן</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סגן למו"פ ו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מנהלת מערכות לחימה יבשתיות</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מנהל הגנה, חמח"ן, רפאל</a:t>
            </a:r>
            <a:endParaRPr b="0" lang="en-US" sz="2400" spc="-1" strike="noStrike">
              <a:solidFill>
                <a:srgbClr val="000000"/>
              </a:solidFill>
              <a:latin typeface="Arial"/>
            </a:endParaRPr>
          </a:p>
        </p:txBody>
      </p:sp>
      <p:grpSp>
        <p:nvGrpSpPr>
          <p:cNvPr id="596" name="Oval 18"/>
          <p:cNvGrpSpPr/>
          <p:nvPr/>
        </p:nvGrpSpPr>
        <p:grpSpPr>
          <a:xfrm>
            <a:off x="1255680" y="2109960"/>
            <a:ext cx="1852560" cy="1858680"/>
            <a:chOff x="1255680" y="2109960"/>
            <a:chExt cx="1852560" cy="1858680"/>
          </a:xfrm>
        </p:grpSpPr>
        <p:pic>
          <p:nvPicPr>
            <p:cNvPr id="597" name="Oval 18" descr=""/>
            <p:cNvPicPr/>
            <p:nvPr/>
          </p:nvPicPr>
          <p:blipFill>
            <a:blip r:embed="rId1"/>
            <a:stretch/>
          </p:blipFill>
          <p:spPr>
            <a:xfrm>
              <a:off x="1255680" y="2109960"/>
              <a:ext cx="1852560" cy="1858680"/>
            </a:xfrm>
            <a:prstGeom prst="rect">
              <a:avLst/>
            </a:prstGeom>
            <a:ln w="0">
              <a:noFill/>
            </a:ln>
          </p:spPr>
        </p:pic>
        <p:sp>
          <p:nvSpPr>
            <p:cNvPr id="598" name=""/>
            <p:cNvSpPr/>
            <p:nvPr/>
          </p:nvSpPr>
          <p:spPr>
            <a:xfrm>
              <a:off x="1549440" y="2406600"/>
              <a:ext cx="1272960" cy="127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Gill Sans MT"/>
                </a:rPr>
                <a:t>הכסף</a:t>
              </a:r>
              <a:endParaRPr b="0" lang="en-US" sz="2800" spc="-1" strike="noStrike">
                <a:solidFill>
                  <a:srgbClr val="000000"/>
                </a:solidFill>
                <a:latin typeface="Arial"/>
              </a:endParaRPr>
            </a:p>
          </p:txBody>
        </p:sp>
      </p:grpSp>
      <p:grpSp>
        <p:nvGrpSpPr>
          <p:cNvPr id="599" name="Oval 19"/>
          <p:cNvGrpSpPr/>
          <p:nvPr/>
        </p:nvGrpSpPr>
        <p:grpSpPr>
          <a:xfrm>
            <a:off x="3614760" y="2109960"/>
            <a:ext cx="1852560" cy="1858680"/>
            <a:chOff x="3614760" y="2109960"/>
            <a:chExt cx="1852560" cy="1858680"/>
          </a:xfrm>
        </p:grpSpPr>
        <p:pic>
          <p:nvPicPr>
            <p:cNvPr id="600" name="Oval 19" descr=""/>
            <p:cNvPicPr/>
            <p:nvPr/>
          </p:nvPicPr>
          <p:blipFill>
            <a:blip r:embed="rId2"/>
            <a:stretch/>
          </p:blipFill>
          <p:spPr>
            <a:xfrm>
              <a:off x="3614760" y="2109960"/>
              <a:ext cx="1852560" cy="1858680"/>
            </a:xfrm>
            <a:prstGeom prst="rect">
              <a:avLst/>
            </a:prstGeom>
            <a:ln w="0">
              <a:noFill/>
            </a:ln>
          </p:spPr>
        </p:pic>
        <p:sp>
          <p:nvSpPr>
            <p:cNvPr id="601" name=""/>
            <p:cNvSpPr/>
            <p:nvPr/>
          </p:nvSpPr>
          <p:spPr>
            <a:xfrm>
              <a:off x="3906720" y="2406600"/>
              <a:ext cx="1273320" cy="127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Gill Sans MT"/>
                </a:rPr>
                <a:t>הזמן</a:t>
              </a:r>
              <a:endParaRPr b="0" lang="en-US" sz="2800" spc="-1" strike="noStrike">
                <a:solidFill>
                  <a:srgbClr val="000000"/>
                </a:solidFill>
                <a:latin typeface="Arial"/>
              </a:endParaRPr>
            </a:p>
          </p:txBody>
        </p:sp>
      </p:grpSp>
      <p:grpSp>
        <p:nvGrpSpPr>
          <p:cNvPr id="602" name="Oval 20"/>
          <p:cNvGrpSpPr/>
          <p:nvPr/>
        </p:nvGrpSpPr>
        <p:grpSpPr>
          <a:xfrm>
            <a:off x="5967360" y="2109960"/>
            <a:ext cx="1860480" cy="1858680"/>
            <a:chOff x="5967360" y="2109960"/>
            <a:chExt cx="1860480" cy="1858680"/>
          </a:xfrm>
        </p:grpSpPr>
        <p:pic>
          <p:nvPicPr>
            <p:cNvPr id="603" name="Oval 20" descr=""/>
            <p:cNvPicPr/>
            <p:nvPr/>
          </p:nvPicPr>
          <p:blipFill>
            <a:blip r:embed="rId3"/>
            <a:stretch/>
          </p:blipFill>
          <p:spPr>
            <a:xfrm>
              <a:off x="5967360" y="2109960"/>
              <a:ext cx="1860480" cy="1858680"/>
            </a:xfrm>
            <a:prstGeom prst="rect">
              <a:avLst/>
            </a:prstGeom>
            <a:ln w="0">
              <a:noFill/>
            </a:ln>
          </p:spPr>
        </p:pic>
        <p:sp>
          <p:nvSpPr>
            <p:cNvPr id="604" name=""/>
            <p:cNvSpPr/>
            <p:nvPr/>
          </p:nvSpPr>
          <p:spPr>
            <a:xfrm>
              <a:off x="6264360" y="2406600"/>
              <a:ext cx="1272960" cy="127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Gill Sans MT"/>
                </a:rPr>
                <a:t>התוצר</a:t>
              </a:r>
              <a:endParaRPr b="0" lang="en-US" sz="2800" spc="-1" strike="noStrike">
                <a:solidFill>
                  <a:srgbClr val="000000"/>
                </a:solidFill>
                <a:latin typeface="Arial"/>
              </a:endParaRPr>
            </a:p>
          </p:txBody>
        </p:sp>
      </p:grpSp>
      <p:sp>
        <p:nvSpPr>
          <p:cNvPr id="605" name="PlaceHolder 2"/>
          <p:cNvSpPr>
            <a:spLocks noGrp="1"/>
          </p:cNvSpPr>
          <p:nvPr>
            <p:ph type="subTitle"/>
          </p:nvPr>
        </p:nvSpPr>
        <p:spPr>
          <a:xfrm>
            <a:off x="1071720" y="4357440"/>
            <a:ext cx="6997680" cy="785880"/>
          </a:xfrm>
          <a:prstGeom prst="rect">
            <a:avLst/>
          </a:prstGeom>
          <a:noFill/>
          <a:ln w="0">
            <a:noFill/>
          </a:ln>
        </p:spPr>
        <p:txBody>
          <a:bodyPr tIns="0" anchor="t">
            <a:noAutofit/>
          </a:bodyPr>
          <a:p>
            <a:pPr marL="2700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320e04"/>
                </a:solidFill>
                <a:latin typeface="Gill Sans MT"/>
                <a:cs typeface="Arial"/>
              </a:rPr>
              <a:t>שלושת המאפיינים שווי ערך מנקודת המבט של הצלחת הפרויקט במועד סיומו</a:t>
            </a:r>
            <a:endParaRPr b="0" lang="en-US" sz="2600" spc="-1" strike="noStrike">
              <a:solidFill>
                <a:srgbClr val="000000"/>
              </a:solidFill>
              <a:latin typeface="Gill Sans MT"/>
            </a:endParaRPr>
          </a:p>
        </p:txBody>
      </p:sp>
      <p:pic>
        <p:nvPicPr>
          <p:cNvPr id="606" name="Horizontal Scroll 11" descr="">
            <a:hlinkClick r:id="rId4" action="ppaction://hlinksldjump"/>
          </p:cNvPr>
          <p:cNvPicPr/>
          <p:nvPr/>
        </p:nvPicPr>
        <p:blipFill>
          <a:blip r:embed="rId5"/>
          <a:stretch/>
        </p:blipFill>
        <p:spPr>
          <a:xfrm>
            <a:off x="-42840" y="6224760"/>
            <a:ext cx="907920" cy="70632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428840" y="142560"/>
            <a:ext cx="7407360" cy="4287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קשרי גומלין דואליים בין מאפייני הפרויקט – שוויון הערך</a:t>
            </a:r>
            <a:endParaRPr b="0" lang="en-US" sz="1800" spc="-1" strike="noStrike">
              <a:solidFill>
                <a:srgbClr val="572314"/>
              </a:solidFill>
              <a:latin typeface="Gill Sans MT"/>
            </a:endParaRPr>
          </a:p>
        </p:txBody>
      </p:sp>
      <p:sp>
        <p:nvSpPr>
          <p:cNvPr id="608" name="PlaceHolder 2"/>
          <p:cNvSpPr>
            <a:spLocks noGrp="1"/>
          </p:cNvSpPr>
          <p:nvPr>
            <p:ph type="subTitle"/>
          </p:nvPr>
        </p:nvSpPr>
        <p:spPr>
          <a:xfrm>
            <a:off x="999720" y="1071720"/>
            <a:ext cx="7836120" cy="557208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קשר הראשון בין המאפיינים נגזר מהיעדים שאנו מציבים לפרויקט </a:t>
            </a:r>
            <a:r>
              <a:rPr b="1" lang="he-IL" sz="1800" spc="-1" strike="noStrike">
                <a:solidFill>
                  <a:srgbClr val="320e04"/>
                </a:solidFill>
                <a:latin typeface="Gill Sans MT"/>
                <a:cs typeface="Arial"/>
              </a:rPr>
              <a:t>במועד סיומו</a:t>
            </a:r>
            <a:r>
              <a:rPr b="0" lang="he-IL" sz="1800" spc="-1" strike="noStrike">
                <a:solidFill>
                  <a:srgbClr val="320e04"/>
                </a:solidFill>
                <a:latin typeface="Gill Sans MT"/>
                <a:ea typeface="Arial"/>
              </a:rPr>
              <a:t>. פרויקט ייסתיים בצורה המוצלחת ביותר כאשר יושגו שלושת היעדים גם יחד: התוצר המוגדר, בזמן שהוקצה ובתקציב שהוקצב. מכאן נובע שערכו של כל אחד מהמאפיינים שווה לערך רעהו ומנהל הפרויקט צריך לשאוף להשגת היעד המלא בכל אחד ממאפיינים אלו.</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תוצר מצוין שפיתוחו הסתיים באיחור עלול למצוא את השוק על צרכיו ומתחריו במקום אחר (</a:t>
            </a:r>
            <a:r>
              <a:rPr b="0" lang="en-US" sz="1800" spc="-1" strike="noStrike">
                <a:solidFill>
                  <a:srgbClr val="320e04"/>
                </a:solidFill>
                <a:latin typeface="Gill Sans MT"/>
              </a:rPr>
              <a:t>Time-to-Market</a:t>
            </a:r>
            <a:r>
              <a:rPr b="0" lang="he-IL" sz="1800" spc="-1" strike="noStrike">
                <a:solidFill>
                  <a:srgbClr val="320e04"/>
                </a:solidFill>
                <a:latin typeface="Gill Sans MT"/>
                <a:ea typeface="Arial"/>
              </a:rPr>
              <a:t>). פרויקט שהסתיים בעלות גבוהה מהמוקצב עלול להעיב על שורת הרווח של הארגון העיסקי ואף למוטט כליל חברה קטנה. פרויקט שהצליח להקפיד על סיום במועד ובמסגרת התקציב אך עשה זאת על חשבון אחד ממאפייני התוצר עלול למצוא עצמו עם מוצר נחות שאינו מתקבל היטב בשוק.</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משתי נקודות המבט, הן זו של השוק והן זו של הארגון העיסקי במסגרתו פועל צוות הפרויקט, נדרש הפרויקט </a:t>
            </a:r>
            <a:r>
              <a:rPr b="1" lang="he-IL" sz="1800" spc="-1" strike="noStrike">
                <a:solidFill>
                  <a:srgbClr val="320e04"/>
                </a:solidFill>
                <a:latin typeface="Gill Sans MT"/>
                <a:cs typeface="Arial"/>
              </a:rPr>
              <a:t>לסיים</a:t>
            </a:r>
            <a:r>
              <a:rPr b="0" lang="he-IL" sz="1800" spc="-1" strike="noStrike">
                <a:solidFill>
                  <a:srgbClr val="320e04"/>
                </a:solidFill>
                <a:latin typeface="Gill Sans MT"/>
                <a:ea typeface="Arial"/>
              </a:rPr>
              <a:t> את פעילותו תוך השלמת התוצר וזאת בזמן ובתקציב המתאימים כולם לצרכים העסקיים כפי שנקבעו.</a:t>
            </a:r>
            <a:endParaRPr b="0" lang="en-US" sz="1800" spc="-1" strike="noStrike">
              <a:solidFill>
                <a:srgbClr val="000000"/>
              </a:solidFill>
              <a:latin typeface="Gill Sans MT"/>
            </a:endParaRPr>
          </a:p>
        </p:txBody>
      </p:sp>
      <p:sp>
        <p:nvSpPr>
          <p:cNvPr id="609"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0" y="285480"/>
            <a:ext cx="9144000" cy="121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קשרי גומלין דואליים בין מאפייני הפרויקט</a:t>
            </a:r>
            <a:br>
              <a:rPr sz="3900"/>
            </a:br>
            <a:r>
              <a:rPr b="0" lang="he-IL" sz="3900" spc="-1" strike="noStrike">
                <a:solidFill>
                  <a:srgbClr val="572314"/>
                </a:solidFill>
                <a:latin typeface="Gill Sans MT"/>
                <a:cs typeface="Arial"/>
              </a:rPr>
              <a:t>ב) הקשר ההיררכי</a:t>
            </a:r>
            <a:endParaRPr b="0" lang="en-US" sz="3900" spc="-1" strike="noStrike">
              <a:solidFill>
                <a:srgbClr val="572314"/>
              </a:solidFill>
              <a:latin typeface="Gill Sans MT"/>
            </a:endParaRPr>
          </a:p>
        </p:txBody>
      </p:sp>
      <p:sp>
        <p:nvSpPr>
          <p:cNvPr id="612" name="Subtitle 2"/>
          <p:cNvSpPr/>
          <p:nvPr/>
        </p:nvSpPr>
        <p:spPr>
          <a:xfrm>
            <a:off x="7572240" y="-428760"/>
            <a:ext cx="7407360" cy="4500720"/>
          </a:xfrm>
          <a:prstGeom prst="rect">
            <a:avLst/>
          </a:prstGeom>
          <a:noFill/>
          <a:ln w="0">
            <a:noFill/>
          </a:ln>
        </p:spPr>
        <p:style>
          <a:lnRef idx="0"/>
          <a:fillRef idx="0"/>
          <a:effectRef idx="0"/>
          <a:fontRef idx="minor"/>
        </p:style>
        <p:txBody>
          <a:bodyPr lIns="90000" rIns="90000" tIns="0" bIns="46800" anchor="t">
            <a:noAutofit/>
          </a:bodyPr>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סדנת הצלחות וכשלונות ב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קורס למנהלי 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תע"ש, </a:t>
            </a:r>
            <a:r>
              <a:rPr b="0" lang="he-IL" sz="2400" spc="-1" strike="noStrike">
                <a:solidFill>
                  <a:srgbClr val="320e04"/>
                </a:solidFill>
                <a:latin typeface="Gill Sans MT"/>
              </a:rPr>
              <a:t>24.5.09</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הרצאה מאת שמעון זיירמן</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סגן למו"פ ו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מנהלת מערכות לחימה יבשתיות</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מנהל הגנה, חמח"ן, רפאל</a:t>
            </a:r>
            <a:endParaRPr b="0" lang="en-US" sz="2400" spc="-1" strike="noStrike">
              <a:solidFill>
                <a:srgbClr val="000000"/>
              </a:solidFill>
              <a:latin typeface="Arial"/>
            </a:endParaRPr>
          </a:p>
        </p:txBody>
      </p:sp>
      <p:sp>
        <p:nvSpPr>
          <p:cNvPr id="613" name="Left Arrow 22"/>
          <p:cNvSpPr/>
          <p:nvPr/>
        </p:nvSpPr>
        <p:spPr>
          <a:xfrm>
            <a:off x="6215040" y="2214720"/>
            <a:ext cx="2714760" cy="2071440"/>
          </a:xfrm>
          <a:prstGeom prst="leftArrow">
            <a:avLst>
              <a:gd name="adj1" fmla="val 50000"/>
              <a:gd name="adj2" fmla="val 50008"/>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ffffff"/>
                </a:solidFill>
                <a:latin typeface="Gill Sans MT"/>
              </a:rPr>
              <a:t>מפרט התוצר משפיע על</a:t>
            </a:r>
            <a:r>
              <a:rPr b="0" lang="en-US" sz="1600" spc="-1" strike="noStrike">
                <a:solidFill>
                  <a:srgbClr val="ffffff"/>
                </a:solidFill>
                <a:latin typeface="Gill Sans MT"/>
              </a:rPr>
              <a:t>:</a:t>
            </a:r>
            <a:br>
              <a:rPr sz="1600"/>
            </a:br>
            <a:r>
              <a:rPr b="0" lang="he-IL" sz="1600" spc="-1" strike="noStrike">
                <a:solidFill>
                  <a:srgbClr val="ffe39d"/>
                </a:solidFill>
                <a:latin typeface="Gill Sans MT"/>
              </a:rPr>
              <a:t> =&gt; מענה לצרכי השוק</a:t>
            </a:r>
            <a:br>
              <a:rPr sz="1600"/>
            </a:br>
            <a:r>
              <a:rPr b="0" lang="he-IL" sz="1600" spc="-1" strike="noStrike">
                <a:solidFill>
                  <a:srgbClr val="b9d77a"/>
                </a:solidFill>
                <a:latin typeface="Gill Sans MT"/>
              </a:rPr>
              <a:t>=&gt; משך ועלות הביצוע</a:t>
            </a:r>
            <a:endParaRPr b="0" lang="en-US" sz="1600" spc="-1" strike="noStrike">
              <a:solidFill>
                <a:srgbClr val="000000"/>
              </a:solidFill>
              <a:latin typeface="Arial"/>
            </a:endParaRPr>
          </a:p>
        </p:txBody>
      </p:sp>
      <p:sp>
        <p:nvSpPr>
          <p:cNvPr id="614" name="Left Arrow 23"/>
          <p:cNvSpPr/>
          <p:nvPr/>
        </p:nvSpPr>
        <p:spPr>
          <a:xfrm>
            <a:off x="3286080" y="2214720"/>
            <a:ext cx="2714760" cy="2071440"/>
          </a:xfrm>
          <a:prstGeom prst="leftArrow">
            <a:avLst>
              <a:gd name="adj1" fmla="val 50000"/>
              <a:gd name="adj2" fmla="val 50008"/>
            </a:avLst>
          </a:prstGeom>
          <a:solidFill>
            <a:srgbClr val="3891a7"/>
          </a:solidFill>
          <a:ln w="25560">
            <a:solidFill>
              <a:srgbClr val="26697a"/>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ffffff"/>
                </a:solidFill>
                <a:latin typeface="Gill Sans MT"/>
              </a:rPr>
              <a:t>משך הפרויקט משפיע על:</a:t>
            </a:r>
            <a:br>
              <a:rPr sz="1600"/>
            </a:br>
            <a:r>
              <a:rPr b="0" lang="he-IL" sz="1600" spc="-1" strike="noStrike">
                <a:solidFill>
                  <a:srgbClr val="ffe39d"/>
                </a:solidFill>
                <a:latin typeface="Gill Sans MT"/>
              </a:rPr>
              <a:t> =&gt; תזמון נכון לשוק</a:t>
            </a:r>
            <a:br>
              <a:rPr sz="1600"/>
            </a:br>
            <a:r>
              <a:rPr b="0" lang="he-IL" sz="1600" spc="-1" strike="noStrike">
                <a:solidFill>
                  <a:srgbClr val="b9d77a"/>
                </a:solidFill>
                <a:latin typeface="Gill Sans MT"/>
              </a:rPr>
              <a:t>=&gt; עלות הביצוע</a:t>
            </a:r>
            <a:endParaRPr b="0" lang="en-US" sz="1600" spc="-1" strike="noStrike">
              <a:solidFill>
                <a:srgbClr val="000000"/>
              </a:solidFill>
              <a:latin typeface="Arial"/>
            </a:endParaRPr>
          </a:p>
        </p:txBody>
      </p:sp>
      <p:sp>
        <p:nvSpPr>
          <p:cNvPr id="615" name="Left Arrow 24"/>
          <p:cNvSpPr/>
          <p:nvPr/>
        </p:nvSpPr>
        <p:spPr>
          <a:xfrm>
            <a:off x="357120" y="2214720"/>
            <a:ext cx="2786040" cy="2071440"/>
          </a:xfrm>
          <a:prstGeom prst="leftArrow">
            <a:avLst>
              <a:gd name="adj1" fmla="val 50000"/>
              <a:gd name="adj2" fmla="val 50007"/>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ffffff"/>
                </a:solidFill>
                <a:latin typeface="Gill Sans MT"/>
              </a:rPr>
              <a:t>עלות הביצוע משפיעה על:</a:t>
            </a:r>
            <a:br>
              <a:rPr sz="1600"/>
            </a:br>
            <a:r>
              <a:rPr b="0" lang="he-IL" sz="1600" spc="-1" strike="noStrike">
                <a:solidFill>
                  <a:srgbClr val="ffe39d"/>
                </a:solidFill>
                <a:latin typeface="Gill Sans MT"/>
              </a:rPr>
              <a:t>=&gt; יכולת המכירה לשוק</a:t>
            </a:r>
            <a:br>
              <a:rPr sz="1600"/>
            </a:br>
            <a:r>
              <a:rPr b="0" lang="he-IL" sz="1600" spc="-1" strike="noStrike">
                <a:solidFill>
                  <a:srgbClr val="b9d77a"/>
                </a:solidFill>
                <a:latin typeface="Gill Sans MT"/>
              </a:rPr>
              <a:t>=&gt; רווח לארגון העסקי</a:t>
            </a:r>
            <a:endParaRPr b="0" lang="en-US" sz="1600" spc="-1" strike="noStrike">
              <a:solidFill>
                <a:srgbClr val="000000"/>
              </a:solidFill>
              <a:latin typeface="Arial"/>
            </a:endParaRPr>
          </a:p>
        </p:txBody>
      </p:sp>
      <p:sp>
        <p:nvSpPr>
          <p:cNvPr id="616" name="Subtitle 2"/>
          <p:cNvSpPr/>
          <p:nvPr/>
        </p:nvSpPr>
        <p:spPr>
          <a:xfrm>
            <a:off x="928800" y="4500720"/>
            <a:ext cx="8215200" cy="1558800"/>
          </a:xfrm>
          <a:prstGeom prst="rect">
            <a:avLst/>
          </a:prstGeom>
          <a:noFill/>
          <a:ln w="0">
            <a:noFill/>
          </a:ln>
        </p:spPr>
        <p:style>
          <a:lnRef idx="0"/>
          <a:fillRef idx="0"/>
          <a:effectRef idx="0"/>
          <a:fontRef idx="minor"/>
        </p:style>
        <p:txBody>
          <a:bodyPr lIns="90000" rIns="90000" tIns="0" bIns="46800" anchor="t">
            <a:noAutofit/>
          </a:bodyPr>
          <a:p>
            <a:pPr marL="270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320e04"/>
                </a:solidFill>
                <a:latin typeface="Gill Sans MT"/>
              </a:rPr>
              <a:t>שלושת המאפיינים מקיימים קשר היררכי (תוצר     זמן      כסף)</a:t>
            </a:r>
            <a:endParaRPr b="0" lang="en-US" sz="2600" spc="-1" strike="noStrike">
              <a:solidFill>
                <a:srgbClr val="000000"/>
              </a:solidFill>
              <a:latin typeface="Arial"/>
            </a:endParaRPr>
          </a:p>
          <a:p>
            <a:pPr marL="270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320e04"/>
                </a:solidFill>
                <a:latin typeface="Gill Sans MT"/>
              </a:rPr>
              <a:t>מנקודת המבט של </a:t>
            </a:r>
            <a:r>
              <a:rPr b="0" lang="he-IL" sz="2600" spc="-1" strike="noStrike">
                <a:solidFill>
                  <a:srgbClr val="c58d01"/>
                </a:solidFill>
                <a:latin typeface="Gill Sans MT"/>
              </a:rPr>
              <a:t>השוק</a:t>
            </a:r>
            <a:r>
              <a:rPr b="0" lang="he-IL" sz="2600" spc="-1" strike="noStrike">
                <a:solidFill>
                  <a:srgbClr val="320e04"/>
                </a:solidFill>
                <a:latin typeface="Gill Sans MT"/>
              </a:rPr>
              <a:t> ומנקודת המבט של </a:t>
            </a:r>
            <a:r>
              <a:rPr b="0" lang="he-IL" sz="2600" spc="-1" strike="noStrike">
                <a:solidFill>
                  <a:srgbClr val="637f26"/>
                </a:solidFill>
                <a:latin typeface="Gill Sans MT"/>
              </a:rPr>
              <a:t>הארגון העסקי.</a:t>
            </a:r>
            <a:endParaRPr b="0" lang="en-US" sz="2600" spc="-1" strike="noStrike">
              <a:solidFill>
                <a:srgbClr val="000000"/>
              </a:solidFill>
              <a:latin typeface="Arial"/>
            </a:endParaRPr>
          </a:p>
          <a:p>
            <a:pPr marL="270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320e04"/>
                </a:solidFill>
                <a:latin typeface="Gill Sans MT"/>
              </a:rPr>
              <a:t>קיים קשר היררכי דומה בשתי נקודות מבט אלו.</a:t>
            </a:r>
            <a:endParaRPr b="0" lang="en-US" sz="2600" spc="-1" strike="noStrike">
              <a:solidFill>
                <a:srgbClr val="000000"/>
              </a:solidFill>
              <a:latin typeface="Arial"/>
            </a:endParaRPr>
          </a:p>
        </p:txBody>
      </p:sp>
      <p:pic>
        <p:nvPicPr>
          <p:cNvPr id="617" name="Horizontal Scroll 11" descr="">
            <a:hlinkClick r:id="rId1" action="ppaction://hlinksldjump"/>
          </p:cNvPr>
          <p:cNvPicPr/>
          <p:nvPr/>
        </p:nvPicPr>
        <p:blipFill>
          <a:blip r:embed="rId2"/>
          <a:stretch/>
        </p:blipFill>
        <p:spPr>
          <a:xfrm>
            <a:off x="-42840" y="6224760"/>
            <a:ext cx="907920" cy="706320"/>
          </a:xfrm>
          <a:prstGeom prst="rect">
            <a:avLst/>
          </a:prstGeom>
          <a:ln w="0">
            <a:noFill/>
          </a:ln>
        </p:spPr>
      </p:pic>
      <p:sp>
        <p:nvSpPr>
          <p:cNvPr id="618" name="Left Arrow 12"/>
          <p:cNvSpPr/>
          <p:nvPr/>
        </p:nvSpPr>
        <p:spPr>
          <a:xfrm>
            <a:off x="2714760" y="4630680"/>
            <a:ext cx="276120" cy="204840"/>
          </a:xfrm>
          <a:prstGeom prst="leftArrow">
            <a:avLst>
              <a:gd name="adj1" fmla="val 50000"/>
              <a:gd name="adj2" fmla="val 4996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Left Arrow 13"/>
          <p:cNvSpPr/>
          <p:nvPr/>
        </p:nvSpPr>
        <p:spPr>
          <a:xfrm>
            <a:off x="1785960" y="4630680"/>
            <a:ext cx="276120" cy="204840"/>
          </a:xfrm>
          <a:prstGeom prst="leftArrow">
            <a:avLst>
              <a:gd name="adj1" fmla="val 50000"/>
              <a:gd name="adj2" fmla="val 4996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28840" y="142560"/>
            <a:ext cx="7407360" cy="4287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קשרי גומלין דואליים בין מאפייני הפרויקט – הקשר ההיררכי</a:t>
            </a:r>
            <a:endParaRPr b="0" lang="en-US" sz="1800" spc="-1" strike="noStrike">
              <a:solidFill>
                <a:srgbClr val="572314"/>
              </a:solidFill>
              <a:latin typeface="Gill Sans MT"/>
            </a:endParaRPr>
          </a:p>
        </p:txBody>
      </p:sp>
      <p:sp>
        <p:nvSpPr>
          <p:cNvPr id="621" name="PlaceHolder 2"/>
          <p:cNvSpPr>
            <a:spLocks noGrp="1"/>
          </p:cNvSpPr>
          <p:nvPr>
            <p:ph type="subTitle"/>
          </p:nvPr>
        </p:nvSpPr>
        <p:spPr>
          <a:xfrm>
            <a:off x="928440" y="571320"/>
            <a:ext cx="7907400" cy="6072120"/>
          </a:xfrm>
          <a:prstGeom prst="rect">
            <a:avLst/>
          </a:prstGeom>
          <a:noFill/>
          <a:ln w="0">
            <a:noFill/>
          </a:ln>
        </p:spPr>
        <p:txBody>
          <a:bodyPr tIns="0" anchor="t">
            <a:noAutofit/>
          </a:bodyPr>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קשר השני בין המאפיינים נגזר מהקשר ההיררכי הקיים בין השוק לבין הארגון העיסקי ומהקשר ההיררכי המאפיין את השפעת מאפייני הפרויקט על רווחיותו.</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שוק הוא המוביל את המהלכים ובכך הוא הראשון בהיררכיית החשיבות. השוק מעונין בראש ובראשונה בתוצר מסוים המתאים לצרכיו. במידה, ורק לאחר שהשוק ימצא את התוצר כמתאים לצרכיו הוא ירצה לרכוש אותו תחת אילוצים מסוימים שיוגדרו על ידו קרי במועד מסוים על פי השימושים המיועדים לתוצר זה ובמחיר הנמוך ביותר, מחיר אותו יבחן השוק כנגד התחרות הרלונטית לתוצר עצמו או כנגד מחיר האלטרנטיבה.</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אמור לעיל מתקיים תמיד אך לעיתים יחרוג השוק ממנהגו ויגלה עניין גדול באספקה מהירה תוך ויתור על דרישותיו בנושא המפרט ו/או המחיר. לעיתים יגלה השוק עניין בהרחבת המפרט תוך ויתור על דרישות בנושא המחיר וכיו"ב. חריגות אלה נובעות מתובנות מוקדמות, מתמונה שבונה השוק לעצמו באשר ליכולות הספקים. השוק יכול להעריך שאספקה מהירה יכולה לבוא רק במחיר גבוה יותר ולבטא הערכתו זו בבקשה להצעת מחיר. תובנות מוקדמות של השוק ביחס ליכולות הספקים נכונות במקרים מסוימים, ושגויות, במקרים רבים אחרים. שוק שיתעקש לקבל הצעות למפרט מלא באספקה מהירה ובמחיר נמוך, יגלה עם הזמן, לא אחת, שהוא יכול לקבל מענה מלא לצרכיו.</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שוק אם כן, בהיותו בעל המאה, הוא הגורם הראשי (</a:t>
            </a:r>
            <a:r>
              <a:rPr b="0" lang="en-US" sz="1200" spc="-1" strike="noStrike">
                <a:solidFill>
                  <a:srgbClr val="320e04"/>
                </a:solidFill>
                <a:latin typeface="Gill Sans MT"/>
              </a:rPr>
              <a:t>Primary</a:t>
            </a:r>
            <a:r>
              <a:rPr b="0" lang="he-IL" sz="1200" spc="-1" strike="noStrike">
                <a:solidFill>
                  <a:srgbClr val="320e04"/>
                </a:solidFill>
                <a:latin typeface="Gill Sans MT"/>
                <a:ea typeface="Arial"/>
              </a:rPr>
              <a:t>) בהחלטה באם תתבצע עסקה באם לאו. ההחלטה תתקבל בראש ובראשונה באם השוק יקבל במסגרת עיסקה זו את התוצר הנחוץ לו במועד חתימת העיסקה.</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ארגון העיסקי מעונין אף הוא בעסקה, הוא יכול, בהתנהלותו, לתרום רבות להחלטתו של השוק בענין ביצוע העיסקה אך לעולם הוא יישאר הגורם המשני בהחלטה שכזו. הארגון העיסקי יפעל בראש ובראשונה לסגור עיסקת מכירה רווחית ולצורך כך הוא ינסה ככל יכולתו להתאים את תכונות התוצר ואת מועד האספקה לצרכי השוק וינסה למכור את המוצר במחיר הגבוה ביותר אותו ניתן לקבל מהשוק.</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מצד שני, לרשות הארגון העסקי עומד כלי נוסף להשגת הרווחיות הנדרשת והוא התכנסות לעלויות נמוכות ככל שניתן. הכלי הראשון להשגת רווחיות, הרי הוא קביעת מחיר גבוה למוצר, תלוי במידה רבה בגורמים חיצוניים לארגון העיסקי כגון התחרות בשוק או יכולת הלקוח לשלם. מאידך, היכולת להתכנס לעלויות נמוכות תלויה בעיקר בגורמים פנימיים לארגון כגון ידע טכנולוגי, ידע בניהול לעמידה או לקיצור לו"ז, יכולת התייעלות וקיצוץ הוצאות על ידי יצירת שיתוף פעולה עם גורמים נוספים בתוך הארגון העיסקי או מחוצה לו, ידע בניהול מו"מ להורדת עלות הרכש וכיו"ב.</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התכנסות לעלות נמוכה תלויה בגורמים המשפיעים על העלות ואלה מקיימים סדר היררכי ביניהם. מורכבות התוצר והמפרט שלו הם הגורם העיקרי המשפיע על משך ועלות הפרויקט. אין דין משך ועלות פיתוח קומקום חשמלי כדין משך ועלות פיתוח מכשיר טלפון סלולרי. על כן אנו מציבים את התוצר כראשון וקודם לאחרים בהיררכית הגורמים הקובעים את עלות הפרויקט. הדומיננטיות של התוצר משותפת, כך ניתן לראות, הן בשיקולי השוק והן בשיקולי הארגון העיסקי המספק את התוצר.</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עבור תוצר מסוים העונה למפרט מוגדר תושפע עלות הפרויקט הן ממשך הפרויקט והן מעלות הפעולות הפרויקטליות אותן יש לבצע. משך הפרויקט משפיע על רמת ההוצאות הקבועות של הפרויקט (עלות ניהולית, עלות תשתיות וכיו"ב). אין דין עלות פיתוח קומקום חשמלי במשך חדשיים ימים כדין פיתוח אותו הקומקום (תוך ביצוע אותן הפעולות הנותנות מענה מלא לדרישות מאותו הקומקום) במשך ששה חדשים. עלות הפרויקט שיימשך ששה חדשים תהיה לעולם גבוהה מזה שיימשך חדשיים. על כן אנו מציבים את הזמן כשני בהיררכיית הגורמים הקובעים את עלות הפרויקט.</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עבור תוצר העונה למפרט נתון ועבור משך פרויקט מסוים ומוגדר, ניתן להוריד את עלות הביצוע הורדה נוספת (גם כאן, מבלי להתפשר על מפרט התוצר או על משך זמן הפיתוח) על ידי צעדי התייעלות בתהליכי הפיתוח הייצור או השרות, שימוש באבני בנין קיימות תוך שיתוף פעולה עם פרויקטים אחרים וגורמים נוספים בתוך הארגון העסקי, הורדת עלויות רכש במו"מ ובשיתוף פעולה עם קבלני משנה וכיו"ב. כל אלו נכונים תמיד, לכל תוצר ולכל זמן המוקצב לביצוע הפרויקט וכל ארגון עיסקי נקרא לעודד את הפרויקט, בדרכים שונות, להתייעל כדרך להקטנת עלויות והגדלת הרווחיות.</a:t>
            </a:r>
            <a:endParaRPr b="0" lang="en-US" sz="1200" spc="-1" strike="noStrike">
              <a:solidFill>
                <a:srgbClr val="000000"/>
              </a:solidFill>
              <a:latin typeface="Gill Sans MT"/>
            </a:endParaRPr>
          </a:p>
        </p:txBody>
      </p:sp>
      <p:sp>
        <p:nvSpPr>
          <p:cNvPr id="622"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28840" y="285480"/>
            <a:ext cx="7407360" cy="6397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הצלחה בפרויקט, מהי?</a:t>
            </a:r>
            <a:endParaRPr b="0" lang="en-US" sz="3900" spc="-1" strike="noStrike">
              <a:solidFill>
                <a:srgbClr val="572314"/>
              </a:solidFill>
              <a:latin typeface="Gill Sans MT"/>
            </a:endParaRPr>
          </a:p>
        </p:txBody>
      </p:sp>
      <p:sp>
        <p:nvSpPr>
          <p:cNvPr id="625" name="PlaceHolder 2"/>
          <p:cNvSpPr>
            <a:spLocks noGrp="1"/>
          </p:cNvSpPr>
          <p:nvPr>
            <p:ph type="subTitle"/>
          </p:nvPr>
        </p:nvSpPr>
        <p:spPr>
          <a:xfrm>
            <a:off x="857160" y="1142640"/>
            <a:ext cx="8050320" cy="5072040"/>
          </a:xfrm>
          <a:prstGeom prst="rect">
            <a:avLst/>
          </a:prstGeom>
          <a:noFill/>
          <a:ln w="0">
            <a:noFill/>
          </a:ln>
        </p:spPr>
        <p:txBody>
          <a:bodyPr tIns="0" anchor="t">
            <a:noAutofit/>
          </a:bodyPr>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צלחת הפרויקט נמדדת עם סיומו, בכל שלושת המאפיינים גם יחד:</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מוצר הנכון, בזמן הנכון בתקציב הנכון.</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ea typeface="Arial"/>
              </a:rPr>
              <a:t>"הנכון":</a:t>
            </a:r>
            <a:endParaRPr b="0" lang="en-US" sz="2400" spc="-1" strike="noStrike">
              <a:solidFill>
                <a:srgbClr val="000000"/>
              </a:solidFill>
              <a:latin typeface="Gill Sans MT"/>
            </a:endParaRPr>
          </a:p>
          <a:p>
            <a:pPr marL="27000" algn="r" rtl="1">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מתאים לצרכי השוק או הלקוח המזמינים ומשלמים עבור התוצר.</a:t>
            </a:r>
            <a:endParaRPr b="0" lang="en-US" sz="2400" spc="-1" strike="noStrike">
              <a:solidFill>
                <a:srgbClr val="000000"/>
              </a:solidFill>
              <a:latin typeface="Gill Sans MT"/>
            </a:endParaRPr>
          </a:p>
          <a:p>
            <a:pPr marL="27000" algn="r" rtl="1">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משרת את יעדי הארגון המספק את תוצרי הפרויקט.</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ea typeface="Arial"/>
              </a:rPr>
              <a:t>"הנכון" הינו דינמי, חי ונושם במהלך חיי הפרויקט, משתנה עם הזמן מיום התנעת הפרויקט ועד יום סיכומו:</a:t>
            </a:r>
            <a:endParaRPr b="0" lang="en-US" sz="2400" spc="-1" strike="noStrike">
              <a:solidFill>
                <a:srgbClr val="000000"/>
              </a:solidFill>
              <a:latin typeface="Gill Sans MT"/>
            </a:endParaRPr>
          </a:p>
          <a:p>
            <a:pPr marL="27000" algn="r" rtl="1">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גדרת המוצר עשויה להשתנות או להתבהר</a:t>
            </a:r>
            <a:endParaRPr b="0" lang="en-US" sz="2400" spc="-1" strike="noStrike">
              <a:solidFill>
                <a:srgbClr val="000000"/>
              </a:solidFill>
              <a:latin typeface="Gill Sans MT"/>
            </a:endParaRPr>
          </a:p>
          <a:p>
            <a:pPr marL="27000" algn="r" rtl="1">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זמן הנדרש לסיום עשוי להתקצר או להתארך</a:t>
            </a:r>
            <a:endParaRPr b="0" lang="en-US" sz="2400" spc="-1" strike="noStrike">
              <a:solidFill>
                <a:srgbClr val="000000"/>
              </a:solidFill>
              <a:latin typeface="Gill Sans MT"/>
            </a:endParaRPr>
          </a:p>
          <a:p>
            <a:pPr marL="27000" algn="r" rtl="1">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תקציב המוקצה לביצוע עשוי לרדת או לעלות</a:t>
            </a:r>
            <a:endParaRPr b="0" lang="en-US" sz="2400" spc="-1" strike="noStrike">
              <a:solidFill>
                <a:srgbClr val="000000"/>
              </a:solidFill>
              <a:latin typeface="Gill Sans MT"/>
            </a:endParaRPr>
          </a:p>
        </p:txBody>
      </p:sp>
      <p:pic>
        <p:nvPicPr>
          <p:cNvPr id="626" name="Horizontal Scroll 3" descr="">
            <a:hlinkClick r:id="rId1" action="ppaction://hlinksldjump"/>
          </p:cNvPr>
          <p:cNvPicPr/>
          <p:nvPr/>
        </p:nvPicPr>
        <p:blipFill>
          <a:blip r:embed="rId2"/>
          <a:stretch/>
        </p:blipFill>
        <p:spPr>
          <a:xfrm>
            <a:off x="-42840" y="6224760"/>
            <a:ext cx="907920" cy="7063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3T14:54:46Z</dcterms:created>
  <dc:creator>shimon</dc:creator>
  <dc:description/>
  <dc:language>en-US</dc:language>
  <cp:lastModifiedBy>Shimon</cp:lastModifiedBy>
  <dcterms:modified xsi:type="dcterms:W3CDTF">2010-02-07T20:30:53Z</dcterms:modified>
  <cp:revision>84</cp:revision>
  <dc:subject/>
  <dc:title>להצליח בניהול פרויקטים</dc:title>
</cp:coreProperties>
</file>